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C62FB-CD75-4C1A-9BBC-99D1D50CC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DB427-7D81-47CC-8FD6-55FC56D0C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09B8A-F224-4E16-9A7F-F7F50AD70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49CAD-0225-4DAE-A706-97EBC0920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2059F-D108-4C0F-AA0B-6E1548678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65535-1736-4BFB-A882-886510F2E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E382C-D9D6-461A-A147-5AB297CBA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CE42B-30C8-47D5-9138-8622A9878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F5DAB-3675-46CF-92DC-9B452F2FB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76257-4050-4E17-9050-1CC9E42A8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A6DA8-315D-40CA-A213-B5AC82EAC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E257C-FC5A-4AB7-9E74-ED60A17D9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5747D-3801-4D42-8868-3ACBA977E2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Math 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4343400" y="4114800"/>
                <a:ext cx="7714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∈</m:t>
                    </m:r>
                    <m:nary>
                      <m:naryPr>
                        <m:chr m:val="∰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1:09:10Z</dcterms:created>
  <dc:creator>Oliver Craemer</dc:creator>
  <dc:description/>
  <dc:language>en-US</dc:language>
  <cp:lastModifiedBy>Oliver Craemer</cp:lastModifiedBy>
  <dcterms:modified xsi:type="dcterms:W3CDTF">2005-01-06T11:09:21Z</dcterms:modified>
  <cp:revision>1</cp:revision>
  <dc:subject/>
  <dc:title>Math OLE</dc:title>
</cp:coreProperties>
</file>