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697-6CCD-4804-A0C1-064E2AB8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847-5213-47C4-BC20-AF6595C8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8717-C80A-45D3-9F37-57E4A0B2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348-C443-4F62-ABAD-2D484C95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F63-78ED-4779-8B9F-C92F5C1B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F271-906D-48BE-A382-A4ABEB67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46A-C8CE-45DC-A3DF-E8F4F7A7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28D0-A0EA-4252-9002-34BC32E5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910A-E7CB-47E0-B079-DD9F7096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B0C-DF17-4450-8217-F9D1C5C4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FF0-180F-4483-8717-5392193F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34E-C1C0-47BC-88C0-0FBB2961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D52E-46AC-484A-8B7A-C545C7196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16280"/>
            <a:ext cx="1511280" cy="1008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ck trace needed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>
            <a:stCxn id="43" idx="2"/>
            <a:endCxn id="44" idx="0"/>
          </p:cNvCxnSpPr>
          <p:nvPr/>
        </p:nvCxnSpPr>
        <p:spPr>
          <a:xfrm flipH="1" rot="16200000">
            <a:off x="3241080" y="909360"/>
            <a:ext cx="286200" cy="1080"/>
          </a:xfrm>
          <a:prstGeom prst="bentConnector3">
            <a:avLst>
              <a:gd name="adj1" fmla="val 492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3"/>
            <a:endCxn id="46" idx="0"/>
          </p:cNvCxnSpPr>
          <p:nvPr/>
        </p:nvCxnSpPr>
        <p:spPr>
          <a:xfrm>
            <a:off x="4138560" y="2420280"/>
            <a:ext cx="72108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4211640" y="270828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1"/>
            <a:endCxn id="48" idx="0"/>
          </p:cNvCxnSpPr>
          <p:nvPr/>
        </p:nvCxnSpPr>
        <p:spPr>
          <a:xfrm flipV="1" rot="10800000">
            <a:off x="1978560" y="2420280"/>
            <a:ext cx="64872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2268360" y="1052640"/>
            <a:ext cx="2232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alculate log tar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nd filters bas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on logger name and log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1" idx="0"/>
          </p:cNvCxnSpPr>
          <p:nvPr/>
        </p:nvCxnSpPr>
        <p:spPr>
          <a:xfrm rot="5400000">
            <a:off x="3239640" y="1771560"/>
            <a:ext cx="288000" cy="1800"/>
          </a:xfrm>
          <a:prstGeom prst="bentConnector3">
            <a:avLst>
              <a:gd name="adj1" fmla="val 49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4859280" y="1341360"/>
            <a:ext cx="230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ecause of the special data structur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sed, the amortized cost of this is ze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3"/>
            <a:endCxn id="50" idx="1"/>
          </p:cNvCxnSpPr>
          <p:nvPr/>
        </p:nvCxnSpPr>
        <p:spPr>
          <a:xfrm>
            <a:off x="4500720" y="1340640"/>
            <a:ext cx="358920" cy="360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48" name=""/>
          <p:cNvSpPr/>
          <p:nvPr/>
        </p:nvSpPr>
        <p:spPr>
          <a:xfrm>
            <a:off x="1258920" y="2708280"/>
            <a:ext cx="14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out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565360"/>
            <a:ext cx="201600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s rather lengthy ope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nd should be avoid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 prerformance reas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6" idx="3"/>
            <a:endCxn id="52" idx="1"/>
          </p:cNvCxnSpPr>
          <p:nvPr/>
        </p:nvCxnSpPr>
        <p:spPr>
          <a:xfrm flipV="1">
            <a:off x="5506920" y="2925000"/>
            <a:ext cx="289440" cy="352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54" name=""/>
          <p:cNvCxnSpPr>
            <a:stCxn id="48" idx="2"/>
            <a:endCxn id="55" idx="0"/>
          </p:cNvCxnSpPr>
          <p:nvPr/>
        </p:nvCxnSpPr>
        <p:spPr>
          <a:xfrm flipH="1" rot="16200000">
            <a:off x="2356200" y="2834280"/>
            <a:ext cx="649440" cy="14036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6" idx="2"/>
            <a:endCxn id="55" idx="0"/>
          </p:cNvCxnSpPr>
          <p:nvPr/>
        </p:nvCxnSpPr>
        <p:spPr>
          <a:xfrm rot="5400000">
            <a:off x="3795840" y="2797560"/>
            <a:ext cx="649440" cy="14774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482920" y="3860640"/>
            <a:ext cx="1798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Proceed to the firs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s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llowed by filte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3"/>
            <a:endCxn id="59" idx="1"/>
          </p:cNvCxnSpPr>
          <p:nvPr/>
        </p:nvCxnSpPr>
        <p:spPr>
          <a:xfrm>
            <a:off x="5435640" y="5085360"/>
            <a:ext cx="1152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9" idx="0"/>
            <a:endCxn id="61" idx="3"/>
          </p:cNvCxnSpPr>
          <p:nvPr/>
        </p:nvCxnSpPr>
        <p:spPr>
          <a:xfrm flipV="1" rot="16200000">
            <a:off x="6984360" y="4222080"/>
            <a:ext cx="396360" cy="32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1" idx="1"/>
            <a:endCxn id="57" idx="0"/>
          </p:cNvCxnSpPr>
          <p:nvPr/>
        </p:nvCxnSpPr>
        <p:spPr>
          <a:xfrm flipV="1" rot="10800000">
            <a:off x="4679640" y="4185360"/>
            <a:ext cx="468720" cy="39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5148360" y="3933720"/>
            <a:ext cx="187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dvance to the nex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3"/>
            <a:endCxn id="57" idx="0"/>
          </p:cNvCxnSpPr>
          <p:nvPr/>
        </p:nvCxnSpPr>
        <p:spPr>
          <a:xfrm>
            <a:off x="4281480" y="4112280"/>
            <a:ext cx="398880" cy="469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4932360" y="5805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Send log event to the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7" idx="2"/>
            <a:endCxn id="64" idx="1"/>
          </p:cNvCxnSpPr>
          <p:nvPr/>
        </p:nvCxnSpPr>
        <p:spPr>
          <a:xfrm flipH="1" rot="16200000">
            <a:off x="4572360" y="5697000"/>
            <a:ext cx="46764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4" idx="3"/>
            <a:endCxn id="59" idx="2"/>
          </p:cNvCxnSpPr>
          <p:nvPr/>
        </p:nvCxnSpPr>
        <p:spPr>
          <a:xfrm flipV="1">
            <a:off x="7020000" y="5589720"/>
            <a:ext cx="324000" cy="467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971640" y="4941720"/>
            <a:ext cx="266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nvolves walk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e entire filter list and the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epends on the filter complex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7" idx="3"/>
            <a:endCxn id="57" idx="1"/>
          </p:cNvCxnSpPr>
          <p:nvPr/>
        </p:nvCxnSpPr>
        <p:spPr>
          <a:xfrm flipV="1">
            <a:off x="3635280" y="5085360"/>
            <a:ext cx="289440" cy="21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9" name=""/>
          <p:cNvSpPr/>
          <p:nvPr/>
        </p:nvSpPr>
        <p:spPr>
          <a:xfrm>
            <a:off x="4139640" y="220500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4360" y="552924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ve more targe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8720" y="437832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8160" y="530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9" idx="3"/>
            <a:endCxn id="74" idx="0"/>
          </p:cNvCxnSpPr>
          <p:nvPr/>
        </p:nvCxnSpPr>
        <p:spPr>
          <a:xfrm flipH="1">
            <a:off x="7885080" y="5085360"/>
            <a:ext cx="214560" cy="1080720"/>
          </a:xfrm>
          <a:prstGeom prst="bentConnector4">
            <a:avLst>
              <a:gd name="adj1" fmla="val -110084"/>
              <a:gd name="adj2" fmla="val 733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524720" y="6165720"/>
            <a:ext cx="72072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7080" y="4881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21733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2056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Logging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6:19:47Z</dcterms:created>
  <dc:creator>Jarosław Kowalski</dc:creator>
  <dc:description/>
  <dc:language>en-US</dc:language>
  <cp:lastModifiedBy>Jarosław Kowalski</cp:lastModifiedBy>
  <dcterms:modified xsi:type="dcterms:W3CDTF">2005-05-29T06:55:57Z</dcterms:modified>
  <cp:revision>66</cp:revision>
  <dc:subject/>
  <dc:title>Slajd 1</dc:title>
</cp:coreProperties>
</file>