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9FC0-EFCD-468F-A5E9-D282BCF0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592E-37CC-4457-8D34-24EEAD67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D6CC-B780-425E-B78E-3E3C0FA96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55AE-6EC4-4F0E-B319-18244E012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46D6-9D33-4F9C-B1B6-3AD89DD4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AF9A-B46A-4ED9-9B40-1554183D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4B98-9FAF-40AE-A081-D08EDFE1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F399-26E0-4442-A772-37D4CBCF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1036-6487-4916-9DA4-EF18A1EA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9512-8F32-4E49-A423-A72A6023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F8FA-74C0-49F2-8136-2A8772E7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A7AC-8D94-4EB9-9860-C80BD302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2162-5106-4114-B9E0-A1FFD1A73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67120" y="1828800"/>
            <a:ext cx="19051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4488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11800" y="252900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0200" y="2454120"/>
            <a:ext cx="928800" cy="120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19400" y="252900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307960" y="3048120"/>
            <a:ext cx="1425600" cy="110880"/>
            <a:chOff x="2307960" y="3048120"/>
            <a:chExt cx="1425600" cy="110880"/>
          </a:xfrm>
        </p:grpSpPr>
        <p:sp>
          <p:nvSpPr>
            <p:cNvPr id="47" name=""/>
            <p:cNvSpPr/>
            <p:nvPr/>
          </p:nvSpPr>
          <p:spPr>
            <a:xfrm>
              <a:off x="30718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718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3079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6683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7600" y="1828800"/>
            <a:ext cx="44197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6880" y="251928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94040" y="251784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2519280"/>
            <a:ext cx="4572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01600" y="2454120"/>
            <a:ext cx="928800" cy="120348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133360" y="3048120"/>
            <a:ext cx="1425600" cy="110880"/>
            <a:chOff x="2133360" y="3048120"/>
            <a:chExt cx="1425600" cy="110880"/>
          </a:xfrm>
        </p:grpSpPr>
        <p:sp>
          <p:nvSpPr>
            <p:cNvPr id="57" name=""/>
            <p:cNvSpPr/>
            <p:nvPr/>
          </p:nvSpPr>
          <p:spPr>
            <a:xfrm>
              <a:off x="28972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72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1333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4397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96040" y="2498760"/>
            <a:ext cx="547200" cy="792000"/>
            <a:chOff x="5396040" y="2498760"/>
            <a:chExt cx="547200" cy="792000"/>
          </a:xfrm>
        </p:grpSpPr>
        <p:sp>
          <p:nvSpPr>
            <p:cNvPr id="62" name=""/>
            <p:cNvSpPr/>
            <p:nvPr/>
          </p:nvSpPr>
          <p:spPr>
            <a:xfrm>
              <a:off x="5396040" y="2591640"/>
              <a:ext cx="547200" cy="55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96040" y="249876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96040" y="305784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127120" y="32907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0481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3048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536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533412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1800" y="156060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4280" y="56116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143000"/>
            <a:ext cx="784872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320" y="114300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52388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1640" y="4952880"/>
            <a:ext cx="7848720" cy="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600" y="4532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905120"/>
            <a:ext cx="7315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23880" y="1981080"/>
            <a:ext cx="762120" cy="3733920"/>
            <a:chOff x="1523880" y="1981080"/>
            <a:chExt cx="762120" cy="3733920"/>
          </a:xfrm>
        </p:grpSpPr>
        <p:sp>
          <p:nvSpPr>
            <p:cNvPr id="79" name=""/>
            <p:cNvSpPr/>
            <p:nvPr/>
          </p:nvSpPr>
          <p:spPr>
            <a:xfrm>
              <a:off x="1523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76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133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558880" y="1981080"/>
            <a:ext cx="762120" cy="3733920"/>
            <a:chOff x="2558880" y="1981080"/>
            <a:chExt cx="762120" cy="3733920"/>
          </a:xfrm>
        </p:grpSpPr>
        <p:sp>
          <p:nvSpPr>
            <p:cNvPr id="83" name=""/>
            <p:cNvSpPr/>
            <p:nvPr/>
          </p:nvSpPr>
          <p:spPr>
            <a:xfrm>
              <a:off x="2558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11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68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595680" y="1981080"/>
            <a:ext cx="762120" cy="3733920"/>
            <a:chOff x="3595680" y="1981080"/>
            <a:chExt cx="762120" cy="3733920"/>
          </a:xfrm>
        </p:grpSpPr>
        <p:sp>
          <p:nvSpPr>
            <p:cNvPr id="87" name=""/>
            <p:cNvSpPr/>
            <p:nvPr/>
          </p:nvSpPr>
          <p:spPr>
            <a:xfrm>
              <a:off x="35956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483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2055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632480" y="1981080"/>
            <a:ext cx="761400" cy="3733920"/>
            <a:chOff x="4632480" y="1981080"/>
            <a:chExt cx="761400" cy="3733920"/>
          </a:xfrm>
        </p:grpSpPr>
        <p:sp>
          <p:nvSpPr>
            <p:cNvPr id="91" name=""/>
            <p:cNvSpPr/>
            <p:nvPr/>
          </p:nvSpPr>
          <p:spPr>
            <a:xfrm>
              <a:off x="463248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8476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24196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668920" y="1981080"/>
            <a:ext cx="762120" cy="3733920"/>
            <a:chOff x="5668920" y="1981080"/>
            <a:chExt cx="762120" cy="3733920"/>
          </a:xfrm>
        </p:grpSpPr>
        <p:sp>
          <p:nvSpPr>
            <p:cNvPr id="95" name=""/>
            <p:cNvSpPr/>
            <p:nvPr/>
          </p:nvSpPr>
          <p:spPr>
            <a:xfrm>
              <a:off x="566892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2156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27876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705720" y="1981080"/>
            <a:ext cx="761400" cy="3733920"/>
            <a:chOff x="6705720" y="1981080"/>
            <a:chExt cx="761400" cy="3733920"/>
          </a:xfrm>
        </p:grpSpPr>
        <p:sp>
          <p:nvSpPr>
            <p:cNvPr id="99" name=""/>
            <p:cNvSpPr/>
            <p:nvPr/>
          </p:nvSpPr>
          <p:spPr>
            <a:xfrm>
              <a:off x="6705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731520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54100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81800" y="16365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4280" y="5688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193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840" y="12193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886200"/>
            <a:ext cx="7467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J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6002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0292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5440" y="4608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9810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3880" y="2057400"/>
            <a:ext cx="762120" cy="3733920"/>
            <a:chOff x="1523880" y="2057400"/>
            <a:chExt cx="762120" cy="3733920"/>
          </a:xfrm>
        </p:grpSpPr>
        <p:sp>
          <p:nvSpPr>
            <p:cNvPr id="113" name=""/>
            <p:cNvSpPr/>
            <p:nvPr/>
          </p:nvSpPr>
          <p:spPr>
            <a:xfrm>
              <a:off x="152388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13372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666880" y="2057040"/>
            <a:ext cx="762120" cy="1981440"/>
            <a:chOff x="2666880" y="2057040"/>
            <a:chExt cx="762120" cy="1981440"/>
          </a:xfrm>
        </p:grpSpPr>
        <p:sp>
          <p:nvSpPr>
            <p:cNvPr id="117" name=""/>
            <p:cNvSpPr/>
            <p:nvPr/>
          </p:nvSpPr>
          <p:spPr>
            <a:xfrm>
              <a:off x="2666880" y="2133720"/>
              <a:ext cx="763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4038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52680" y="2057040"/>
              <a:ext cx="763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05520" y="2057040"/>
            <a:ext cx="761400" cy="1981440"/>
            <a:chOff x="5105520" y="2057040"/>
            <a:chExt cx="761400" cy="1981440"/>
          </a:xfrm>
        </p:grpSpPr>
        <p:sp>
          <p:nvSpPr>
            <p:cNvPr id="121" name=""/>
            <p:cNvSpPr/>
            <p:nvPr/>
          </p:nvSpPr>
          <p:spPr>
            <a:xfrm>
              <a:off x="5105520" y="2133720"/>
              <a:ext cx="7596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403848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790960" y="2057040"/>
              <a:ext cx="759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886200" y="2070000"/>
            <a:ext cx="762120" cy="3733920"/>
            <a:chOff x="3886200" y="2070000"/>
            <a:chExt cx="762120" cy="3733920"/>
          </a:xfrm>
        </p:grpSpPr>
        <p:sp>
          <p:nvSpPr>
            <p:cNvPr id="125" name=""/>
            <p:cNvSpPr/>
            <p:nvPr/>
          </p:nvSpPr>
          <p:spPr>
            <a:xfrm>
              <a:off x="3886200" y="20700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38840" y="5803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496040" y="20700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172200" y="2057400"/>
            <a:ext cx="762120" cy="3733920"/>
            <a:chOff x="6172200" y="2057400"/>
            <a:chExt cx="762120" cy="3733920"/>
          </a:xfrm>
        </p:grpSpPr>
        <p:sp>
          <p:nvSpPr>
            <p:cNvPr id="129" name=""/>
            <p:cNvSpPr/>
            <p:nvPr/>
          </p:nvSpPr>
          <p:spPr>
            <a:xfrm>
              <a:off x="61722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248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7820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086600" y="2057400"/>
            <a:ext cx="762120" cy="3733920"/>
            <a:chOff x="7086600" y="2057400"/>
            <a:chExt cx="762120" cy="3733920"/>
          </a:xfrm>
        </p:grpSpPr>
        <p:sp>
          <p:nvSpPr>
            <p:cNvPr id="133" name=""/>
            <p:cNvSpPr/>
            <p:nvPr/>
          </p:nvSpPr>
          <p:spPr>
            <a:xfrm>
              <a:off x="70866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92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76964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56386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81800" y="18651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5400" y="30481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ax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4280" y="5916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4479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840" y="14479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809880"/>
            <a:ext cx="7467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8288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5440" y="48369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2096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49568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22200" y="2286000"/>
            <a:ext cx="73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4495680"/>
            <a:ext cx="763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6019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133720" y="4495680"/>
            <a:ext cx="759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209680" y="228564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029200" y="4495680"/>
            <a:ext cx="1522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14600" y="2286000"/>
            <a:ext cx="685800" cy="1752480"/>
            <a:chOff x="2514600" y="2286000"/>
            <a:chExt cx="685800" cy="1752480"/>
          </a:xfrm>
        </p:grpSpPr>
        <p:sp>
          <p:nvSpPr>
            <p:cNvPr id="157" name=""/>
            <p:cNvSpPr/>
            <p:nvPr/>
          </p:nvSpPr>
          <p:spPr>
            <a:xfrm>
              <a:off x="25146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68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0481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290760" y="2286000"/>
            <a:ext cx="685800" cy="1752480"/>
            <a:chOff x="3290760" y="2286000"/>
            <a:chExt cx="685800" cy="1752480"/>
          </a:xfrm>
        </p:grpSpPr>
        <p:sp>
          <p:nvSpPr>
            <p:cNvPr id="161" name=""/>
            <p:cNvSpPr/>
            <p:nvPr/>
          </p:nvSpPr>
          <p:spPr>
            <a:xfrm>
              <a:off x="32907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4304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242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068720" y="2286000"/>
            <a:ext cx="685800" cy="1752480"/>
            <a:chOff x="4068720" y="2286000"/>
            <a:chExt cx="685800" cy="1752480"/>
          </a:xfrm>
        </p:grpSpPr>
        <p:sp>
          <p:nvSpPr>
            <p:cNvPr id="165" name=""/>
            <p:cNvSpPr/>
            <p:nvPr/>
          </p:nvSpPr>
          <p:spPr>
            <a:xfrm>
              <a:off x="40687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210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6022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844880" y="2286000"/>
            <a:ext cx="685800" cy="1752480"/>
            <a:chOff x="4844880" y="2286000"/>
            <a:chExt cx="685800" cy="1752480"/>
          </a:xfrm>
        </p:grpSpPr>
        <p:sp>
          <p:nvSpPr>
            <p:cNvPr id="169" name=""/>
            <p:cNvSpPr/>
            <p:nvPr/>
          </p:nvSpPr>
          <p:spPr>
            <a:xfrm>
              <a:off x="48448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9716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3784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622840" y="2286000"/>
            <a:ext cx="685800" cy="1752480"/>
            <a:chOff x="5622840" y="2286000"/>
            <a:chExt cx="685800" cy="1752480"/>
          </a:xfrm>
        </p:grpSpPr>
        <p:sp>
          <p:nvSpPr>
            <p:cNvPr id="173" name=""/>
            <p:cNvSpPr/>
            <p:nvPr/>
          </p:nvSpPr>
          <p:spPr>
            <a:xfrm>
              <a:off x="56228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7512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1563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400800" y="2286000"/>
            <a:ext cx="685800" cy="1752480"/>
            <a:chOff x="6400800" y="2286000"/>
            <a:chExt cx="685800" cy="1752480"/>
          </a:xfrm>
        </p:grpSpPr>
        <p:sp>
          <p:nvSpPr>
            <p:cNvPr id="177" name=""/>
            <p:cNvSpPr/>
            <p:nvPr/>
          </p:nvSpPr>
          <p:spPr>
            <a:xfrm>
              <a:off x="64008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530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9343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162920" y="2286000"/>
            <a:ext cx="685800" cy="1752480"/>
            <a:chOff x="7162920" y="2286000"/>
            <a:chExt cx="685800" cy="1752480"/>
          </a:xfrm>
        </p:grpSpPr>
        <p:sp>
          <p:nvSpPr>
            <p:cNvPr id="181" name=""/>
            <p:cNvSpPr/>
            <p:nvPr/>
          </p:nvSpPr>
          <p:spPr>
            <a:xfrm>
              <a:off x="71629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52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6964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01028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696080" y="4495680"/>
            <a:ext cx="1526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7:08:49Z</dcterms:created>
  <dc:creator>Google</dc:creator>
  <dc:description/>
  <dc:language>en-US</dc:language>
  <cp:lastModifiedBy>Google</cp:lastModifiedBy>
  <dcterms:modified xsi:type="dcterms:W3CDTF">2007-05-22T08:11:38Z</dcterms:modified>
  <cp:revision>17</cp:revision>
  <dc:subject/>
  <dc:title>Slide 1</dc:title>
</cp:coreProperties>
</file>