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65FF5F9-876D-4EC1-8BDB-D069025546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 - S1 - V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1 - S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2 - S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3 - S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4 - S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5 - S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6 - S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8 - S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9 - S33 - V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7 - S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0 - S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 - S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1 - S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2 - S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3 - S38 - V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5 - S40 - V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6 - S41 - V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5 - S13 - V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6 - S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7 - S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8 - S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9 - S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0 - S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156520" y="6118200"/>
            <a:ext cx="128592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DS96C2.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BF763054-DA1E-43F5-888C-73EC4411F68B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41AE6FA0-8680-48CF-BF12-E79DAF52DE02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äsentatio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706840" y="4754520"/>
            <a:ext cx="436104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565360" y="5821200"/>
            <a:ext cx="4643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300480" y="2022480"/>
            <a:ext cx="3171960" cy="28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nbankumfang nach Themen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RTD-Project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72960" y="2305080"/>
            <a:ext cx="853128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30120" y="2133720"/>
            <a:ext cx="911232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 den  CORDIS-Datenbank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685880" y="3733920"/>
            <a:ext cx="640080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-Host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57360" y="2114640"/>
            <a:ext cx="84963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 = European Commission Host Organi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ben CORDIS noch 19 weitere Datenbanken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Öffentliches  Paßw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gabe des Paßworts “ECHO” nach Verbindungsaufbau erlaubt lediglich Zugang zu RTD-News (EN)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Registrierung als CORDIS-Benutzer|in ermöglicht Zugang zu allen CORDIS-Datenbank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81944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als CORDIS-Benutz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05040" y="1981080"/>
            <a:ext cx="7562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 (kein “Papierkrieg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bindung zu ECHO aufbauen (mit öffentlichem Paßwort “ECHO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ache festl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 für CORDIS-Registrierung wäh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nweisungen befolgen!</a:t>
            </a: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er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, Brief oder e-m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den CORDIS-Kundendienst sende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90560" y="1809720"/>
            <a:ext cx="81914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.25 - X.28 (z. B. Datex-P, Transpa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8112  - 7 Datenbits, gerade Parität, 1 Stopbit 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2125  - 8 Datenbits, keine Parität, 1 Stopbit  (8,N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ktwahl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öffentliches Telefonnetz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352 420347  -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Telnet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telnet echo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deotex (BT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ehe Videotex-Informationssei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23760" y="1886040"/>
            <a:ext cx="756288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 = Window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es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a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t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m Host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sche Benutzeroberfläche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line-Formulierung der Abfra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sierter Verbindungsauf- und -abba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ü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üheloser Informationszugri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L (Common Command Languag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O-DIS-877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ormt und effiz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e neun CORDIS-Datenbanken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ular- bzw. menügesteuerte Benutzeroberfläch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ungsweise: vierteljährig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85724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06480" y="1874880"/>
            <a:ext cx="7959600" cy="42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züge aus RTD-News  (und anderen Datenbank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vierzehntägig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abstr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drucktes Pendant zu RTD-Pub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novation &amp; Technology Transf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ueste Informationen über F&amp;E in der 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sten der CORDIS-Benutzu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61920" y="182880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   - 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utzer zahlt lediglich die Telekommunikationsgebüh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onnement :  </a:t>
            </a:r>
            <a:r>
              <a:rPr b="1" lang="en-US" sz="2400" spc="-1" strike="noStrike">
                <a:solidFill>
                  <a:srgbClr val="fcd801"/>
                </a:solidFill>
                <a:latin typeface="Times New Roman"/>
                <a:ea typeface="Times New Roman"/>
              </a:rPr>
              <a:t>250 Ecu für vier Ausgaben pro Jah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zelbezug :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00 Ec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eim RTD Help Desk erhältli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blic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12720" y="1952640"/>
            <a:ext cx="854712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00000"/>
              </a:lnSpc>
              <a:spcBef>
                <a:spcPts val="1199"/>
              </a:spcBef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 2</a:t>
            </a:r>
            <a:br>
              <a:rPr sz="1800"/>
            </a:b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 algn="ctr">
              <a:lnSpc>
                <a:spcPct val="100000"/>
              </a:lnSpc>
              <a:spcBef>
                <a:spcPts val="1199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mierter Zugriff auf Host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online) und CD-ROM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dieselbe Benutzerschnittstelle unter Window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s Ziel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42840" y="2019240"/>
            <a:ext cx="7924680" cy="44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Benutzern</a:t>
            </a:r>
            <a:br>
              <a:rPr sz="3600"/>
            </a:b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inen Informationsdienst von bester Qualität anzubieten. </a:t>
            </a:r>
            <a:br>
              <a:rPr sz="1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e Informationen sollen sein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lständi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f dem neusten St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Ansprüchen der Benutzer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ngepaß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000080" y="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Information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46160" y="3429000"/>
            <a:ext cx="7680240" cy="23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TD Help Desk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WW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19200" y="2171520"/>
            <a:ext cx="853452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ruf von Informationen über 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ttp://www.cordis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tstellung und Abruf von elektronischen Dokument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beitsprogramme, Ausschreibungen und andere Dokumente zum Vierten Rahmenprogram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essenbekundunge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Expressions of Interest - EO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von Interessenbekundungen zu bestimmten Teilen des Vierten Rahmenprogram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Kundendien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343160" y="22096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 über CORDIS sind beim mehrsprachigen Help Desk erhältlich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P 2373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1023 Luxembourg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l:  +352 3498 1240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3498 1248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e-mail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elpdesk@cordis.lu</a:t>
            </a:r>
            <a:br>
              <a:rPr sz="18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7360" y="1886040"/>
            <a:ext cx="811548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über gemeinschaftliche Forschung und forschungsbezogene Progamme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päische Kommiss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at “Verbreitung der wissenschaftlichen und technischen Kenntnisse” (DG XIII/D-2)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an-Monnet-Gebäud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e Alcide de Gasperi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2920 Luxembou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4301 3208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71480" y="1905120"/>
            <a:ext cx="7696080" cy="449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603520" y="2098800"/>
            <a:ext cx="4643280" cy="4195440"/>
            <a:chOff x="2603520" y="2098800"/>
            <a:chExt cx="4643280" cy="4195440"/>
          </a:xfrm>
        </p:grpSpPr>
        <p:sp>
          <p:nvSpPr>
            <p:cNvPr id="158" name=""/>
            <p:cNvSpPr txBox="1"/>
            <p:nvPr/>
          </p:nvSpPr>
          <p:spPr>
            <a:xfrm>
              <a:off x="2679840" y="4830840"/>
              <a:ext cx="4361040" cy="138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80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2603520" y="5897520"/>
              <a:ext cx="46432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bf"/>
                  </a:solidFill>
                  <a:latin typeface="Arial"/>
                  <a:ea typeface="Arial"/>
                </a:rPr>
                <a:t>Community R&amp;D Information Servic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3338640" y="2098800"/>
              <a:ext cx="3171960" cy="281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"/>
          <p:cNvSpPr txBox="1"/>
          <p:nvPr/>
        </p:nvSpPr>
        <p:spPr>
          <a:xfrm>
            <a:off x="1955880" y="2001960"/>
            <a:ext cx="5861160" cy="28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... So innovieren Sie rasch und erfolgreic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Datenbanke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150,000 Datensät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20 000 Benut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tand: Januar 199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 flipH="1">
            <a:off x="420048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20048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0048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29536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95360" y="29718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907740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29280" y="2971800"/>
            <a:ext cx="30481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33420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633420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9140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90800" y="487692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24160" y="48769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34200" y="4876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91400" y="426708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91400" y="54864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91400" y="426708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9140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257880" y="594360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9536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95360" y="59436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24560" y="3497400"/>
            <a:ext cx="1728720" cy="596880"/>
          </a:xfrm>
          <a:prstGeom prst="rect">
            <a:avLst/>
          </a:prstGeom>
          <a:solidFill>
            <a:srgbClr val="cf0e3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91080" y="2670120"/>
            <a:ext cx="1728720" cy="596880"/>
          </a:xfrm>
          <a:prstGeom prst="rect">
            <a:avLst/>
          </a:prstGeom>
          <a:solidFill>
            <a:srgbClr val="dc0081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ACRONY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760" y="1852560"/>
            <a:ext cx="17287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N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3336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DOC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46204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GRAM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91080" y="45561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296120" y="399420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296120" y="51483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91080" y="5632560"/>
            <a:ext cx="1728720" cy="596880"/>
          </a:xfrm>
          <a:prstGeom prst="rect">
            <a:avLst/>
          </a:prstGeom>
          <a:solidFill>
            <a:srgbClr val="c0fef9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ART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80036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TD New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achrichten über die gemeinschaftliche F&amp;E-Tätigkeit: Ausschreibungen, Veranstaltungen, vorbereitende Arbeiten usw.  (verfügbar in Englisch, Deutsch und Französisch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  <a:ea typeface="Arial"/>
              </a:rPr>
              <a:t>RTD Contact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ntaktadressen für Auskünfte über gemeinschaftliche und nationale F&amp;E-Vorhabe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dc0081"/>
                </a:solidFill>
                <a:latin typeface="Arial"/>
                <a:ea typeface="Arial"/>
              </a:rPr>
              <a:t>RTD Acronyms</a:t>
            </a:r>
            <a:br>
              <a:rPr sz="1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mpaktes Wörterbuch der Kunstwörter und Abkürzungen im Bereich der gemeinschaftlichen F&amp;E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838160" y="5724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0500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Comdocumen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usammenfassungen forschungsbezogener Dokumente, die die Kommission im Rahmen des Gesetzgebungsvorganges dem Rat oder dem Europäischen Parlament vorleg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gramme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lle EU-geförderten Forschungsprogramme: Ziele, Abwicklung, Finanzierung, derzeitiger Status, zuständige Dienststellen und Bedienstete der Europäischen Kommission usw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jec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ojektverträge und Studien: Titel, Ziele, derzeitiger Status, Veröffentlichungen, Einzelheiten über Auftragnehmer und Partn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81160" y="2038320"/>
            <a:ext cx="744840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ublication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ibliographische Angaben zu Veröffentlichungen, Berichten und wissenschaftlichen Artikeln, die aus den gemeinschaftlichen Forschungsarbeiten hervorgeh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Resul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rgebnisse und Prototypen aus gemeinschaftlicher und sonstiger F&amp;E-Tätigkeit, die auf kommerzielle Verwertung warten; ferner Informationen über Forschungsprojekte, die weiteren Entwicklungsaufwand erforder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0fef9"/>
                </a:solidFill>
                <a:latin typeface="Arial"/>
                <a:ea typeface="Arial"/>
              </a:rPr>
              <a:t>RTD Partner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artnerbörse für gemeinschaftliche F&amp;E-Projekte und für die kommerzielle Verwertung von F&amp;E-Ergebnisse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3127320" y="2509920"/>
            <a:ext cx="2835360" cy="2752560"/>
            <a:chOff x="3127320" y="2509920"/>
            <a:chExt cx="2835360" cy="2752560"/>
          </a:xfrm>
        </p:grpSpPr>
        <p:sp>
          <p:nvSpPr>
            <p:cNvPr id="113" name=""/>
            <p:cNvSpPr/>
            <p:nvPr/>
          </p:nvSpPr>
          <p:spPr>
            <a:xfrm>
              <a:off x="3127320" y="2509920"/>
              <a:ext cx="2835360" cy="2752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138480" y="2527200"/>
              <a:ext cx="2814480" cy="20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 txBox="1"/>
            <p:nvPr/>
          </p:nvSpPr>
          <p:spPr>
            <a:xfrm>
              <a:off x="3200400" y="4425840"/>
              <a:ext cx="2689200" cy="83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8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500800" y="3173400"/>
            <a:ext cx="846000" cy="1509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500200" y="3448080"/>
            <a:ext cx="952920" cy="837000"/>
          </a:xfrm>
          <a:custGeom>
            <a:avLst/>
            <a:gdLst/>
            <a:ahLst/>
            <a:rect l="0" t="0" r="r" b="b"/>
            <a:pathLst>
              <a:path w="2647" h="2325">
                <a:moveTo>
                  <a:pt x="1679" y="548"/>
                </a:moveTo>
                <a:lnTo>
                  <a:pt x="0" y="548"/>
                </a:lnTo>
                <a:lnTo>
                  <a:pt x="0" y="1781"/>
                </a:lnTo>
                <a:lnTo>
                  <a:pt x="1731" y="1781"/>
                </a:lnTo>
                <a:lnTo>
                  <a:pt x="1731" y="2325"/>
                </a:lnTo>
                <a:lnTo>
                  <a:pt x="2647" y="1188"/>
                </a:lnTo>
                <a:lnTo>
                  <a:pt x="1679" y="0"/>
                </a:lnTo>
                <a:lnTo>
                  <a:pt x="1679" y="548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14280" y="2114640"/>
            <a:ext cx="3457440" cy="375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III   INDUSTR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   LANDWIRT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I  VERKEH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  UMWEL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  WISSEN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I  IT&amp;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V  FISCHERE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  REGIONALPOLITI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I  ENERG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XII AUSBILDUNG . .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onsfluß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494320" y="1652760"/>
            <a:ext cx="3798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Benutzergemeinschaft F&amp;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6880" y="1636560"/>
            <a:ext cx="2843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Informationsquel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2640" y="5092560"/>
            <a:ext cx="196848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98520" y="5964120"/>
            <a:ext cx="46767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Öffentliche Information über nationale Forschu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240600" y="2122560"/>
            <a:ext cx="3139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Universitäten und 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Forschungs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Privatunternehmen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(Vor allem KMUs)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ationale Verwaltungen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Informationsbroke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etzwerk der  Relay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Korrespondent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Multiplikato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menspektrum der Datenbanken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Sachgebie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66880" y="189864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d- und meereswirtschaftliche Ressourcen und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Erzeugnisse (L&amp;M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owissenschaften  (B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ergie  (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chsübergreifende F&amp;E-Maßnahmen  (Bü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ustrie und Technik  (I&amp;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ßtechnik und Normen  (M&amp;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urwissenschaften  (N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utz des Menschen und seiner Umwelt  (SM&amp;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sellschafts- und Wirtschaftsfragen  (G&amp;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