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6B699CD-9D9D-41DD-A6EE-A7702585FEE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6759559-5E6B-417D-ABEB-8407B7507EE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FBF2281-6271-4FE6-A7F3-E449E319E5A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17EFC7B-DBB7-4278-A69E-F1A2D064DE2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33BE29D-9580-4A61-AAD2-C86984F01CB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076A6B0-9C35-44CB-9FE9-43C4BA1CEDA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8A11DD0-1E2C-4F21-8AA0-644CBC7D727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8D4039B-DC73-4C0D-9CC4-57CD2219993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6ACBE2A-877B-4D57-AD23-1F9AFFE79B6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73B1559-7F02-474E-B956-68D3936B66B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81A2D5B-34A1-4C3E-BBD9-D370ECE901A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6B4349E-93A5-427F-B395-57ADA78C4BD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88F90A6-8089-4DB5-9D75-BB088447EB6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8320986-9780-4477-A411-811E73195EA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4C14FF9-88D1-4EDF-AA9F-D2DAF727242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5458C18-BC15-4C6A-9827-F84A38B69C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CBE9612-8FDB-413F-928D-B96D3C55A59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C322072-5701-48C3-AE9D-2088B89D866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6E1AA59-1FD1-40A7-A698-681F28159EA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55C43E7-7B02-4424-9E08-E9973980979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BBD4450-2982-4F17-9B37-493F937FE18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8759F57-EBF1-4AD4-890C-90D7BFB297E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26784C0-6724-42D2-B681-54949B634C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FCBE3A2-4F10-4A2F-AA6D-BB1AF130BAE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615039B-E901-4191-AFF2-8C893FDE0A6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A3969C5-720B-405A-9591-6E3DFEE350F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2D6B0AB-60EB-45D2-8DBC-F3600E0C144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6FD926D-7925-47AB-9ACB-71C9F668C1F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A36D7F23-C6A7-4D78-AACF-4842CFD5C0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2215A2D-A7D1-42F4-86DC-8226809AAC1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57A5B34-FAA8-4523-996F-A8C52B00E9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4284FD8-4083-422D-8B56-AA644570D7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18D9CF8-C0FE-4DC3-919D-00181FBE04A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43FB800-B6B0-4B7C-9570-C75108A9EE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25B0499-A915-449C-BF86-F3CE5BCD0DA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8C614E-4DFA-48D3-B645-159D4E8C73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743F2-FC79-49F0-8074-03AF11331515}"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6E6C9-34B4-454C-9DA3-C9B15F59BEA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1C52A1B-7216-4745-8775-EE1DBBB4B299}"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77391E7-C8F5-44E0-92BC-40FC87477542}"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98CBC3E-6DD1-4B8B-861C-5B61906AA338}"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FC4E617-D8CA-4DB1-9E84-F13EDEE097B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D0914C4-D504-4FB7-8A85-0010E4952D43}"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C00425F-609B-4E18-8937-35759F80C3E4}"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351F41B-E7C8-4C42-B175-15E7419D2618}"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0DCE48A-C4A6-4DF4-8F27-8305A0BE5271}"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D799431-A3F7-409A-929A-3CE0C8D3B4D6}"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65A647E-265F-4619-82A4-9BF94A558CFA}"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390CD56-FF09-4A06-A424-9F22AAA7AA3E}"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13F1CF1F-5C77-401F-AABE-FEFFB526757D}"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91544DB-2FC3-4401-9866-B3444721FD96}"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25D0714-9D55-439A-A986-412F3030CCF0}"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00BFD96-7BEC-4AC3-86E9-815FC6571A7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A626928-5994-48C9-813B-EF8ED52177D7}"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43732E8-39E1-44B8-B2B2-A293F96C10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5645124-E766-4CCC-840C-306D355AF0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51DCF02-4CAC-40F4-8379-598BDAB8F0C2}"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7926C54-07F7-4518-A037-0609B457E58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6A7FEBD-16F6-4EE7-B2F8-D888E4AFEA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E44CFCA-2FD9-48BB-B2D7-2FA6F4D6C499}"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D57086E-CD0F-4B92-A424-AC14E727BF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53A7001-FBFF-46BF-BB81-B700C4F7C3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5F5E56D-C075-49AA-8D4A-6D545A3FF45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3508DD2-0F2A-4932-AC35-216B211479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DDCC04A-2575-4D25-80CC-E5F1DFE3C30F}"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2F7FA93-62EF-438B-AB69-2576F7FBD3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3737206-070D-41A6-9831-B07D45EFCF6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2ABFC64-6670-43B1-8AB4-124D28C061E3}"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DA87305-E1FA-4A34-A347-8217C8878A3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2D630B8-830A-49CB-9F27-8D014DAA246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75E4D8B-037A-48F0-8533-0AF2C726204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BDEE810-DE36-467F-AEFC-4D328D825EA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1014D37-348F-4CE7-8014-4E30E905169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6A5B38A-9AFF-4BA8-A62D-3892B8485D9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9328F24-BDAF-44BF-99C8-C483919D4B6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225C97E-385D-4257-A709-F473E3F8F0BE}"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5DDD7DA-352F-41EE-B24E-2DA93A631DFB}"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3E1C436-4F3F-4443-87C0-A9F431E93A6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5FF7CA4-7824-40BB-93B1-B0CA55DA3CEA}"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004430F-53B7-4F94-BB54-C4A8C20380D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2D0BF0-F6D3-423E-8CE3-4B51006013E8}"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53F052C-073E-402F-A999-E2CB61EFE28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D9261BD-C27D-4D16-B4F9-48BDECE767A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BB1F1FB-8706-4192-AFD3-23DD53650D32}"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3FC0562-F0F5-4206-987C-9FFA555DE00E}"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0794169-9D55-457E-914D-BFF32071DA1A}"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78F64FE-1103-4174-B974-05FAB5EE8003}"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46FC8AA-17F4-4D88-97AD-D620A217C28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7ED5177-7A77-4CBB-A852-72DADE3221BF}"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C195B94-D2AC-4CA5-8E11-679699E2CAB5}"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B8CFFDD-A6BE-4CF0-BB6A-997B36862194}"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595AAF8-F7AD-4026-8C9E-4C679A01EE9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B9FA8CC-3145-4E2F-86A5-6EAD19B327C3}"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6640585-008C-49DE-B11B-D4E13A871912}"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55091E0-991F-4FA1-8063-CFE219C2340A}"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C8C37E-9F4D-451B-91C9-AE872F74F197}"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04FB84E-C589-4F01-A504-B400AC25D56C}"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2393EE7-2011-4A24-82F1-0E40810546CC}"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EED27D1-345C-48C0-8AC5-AED7BE1B980F}"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86E81C0-03F3-4F72-ABF7-9A51D6F64A11}"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8415DEC-F358-49D8-BCE9-705DE381CF32}"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04704F0-5568-4B4D-8CF0-8715B290294E}"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6E96D84-2DE9-4113-9D88-B541EFDD7E14}"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E72F90E-B4D3-48A3-8F4F-3C6D36D4A423}"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00E31CC-E851-404E-A69C-288DBBC72DD2}"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74F3A87-DE2F-4D9E-8B26-30D97BB8A0D5}"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4FCC931-E42F-45AC-96BA-86DA49C55343}"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2967558-F397-431D-93E3-BE77C87F7E21}"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CFBEA41-5753-459D-8859-69298042D702}"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C83365F-B8D3-4A8C-81F0-62F469B6E452}"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B748438-519B-4F84-AF51-B562CFA95C65}"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32777AF-7D11-43CB-BFB0-F49AD3A48D7A}"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0D8A2A2-A553-47D1-B506-47D8737917CD}"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58BB80C-8419-46FA-83A3-B21F617BA066}"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A71E9F1-C540-4C4F-92E3-360599991FD5}"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E06EBDB-2AF7-4C41-8FE7-634F2E29869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5D04410-6CEA-419C-8FF3-BCC650046CDB}"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3458150-DBD7-4C92-9B58-58DAB07F2B8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B1921A3-10AA-448B-98A8-A728F46FD64A}"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37D02BE-434A-4086-9A46-ACECF731F836}"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E444BCA-0606-4293-8E3F-6AC0F267191E}"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59D3386-193E-4E62-95BD-B1A5F31582E0}"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9727E96-5A45-47E9-B18F-4D7DD70180FF}"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D2FC69A-4193-4666-8AEA-7F6B239DD3E0}"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6FB5B67-9FD1-433D-A16E-2D9DC504CB53}"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9F3E804-7E8E-4982-89BF-B46768AC3405}"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DA87DAE-575F-45A5-9D55-4B97E9F681B7}"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36083CD-8007-4F26-B188-42958ABBC218}"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EA6C674-C577-4D9B-821C-AE5A0B471E1C}"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C218231-1FDC-4F72-AB8F-99267DA8FE40}"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304A7D7-B31C-4127-9BA4-A981028FF351}"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6209DDF-2878-4813-8EEE-D875C1B71DCD}"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35E364A-53C2-4C0F-BE37-9D146D89184F}"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7B7FD62-383D-47AA-B858-7A15D1AB3C4E}"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0EBA61C-C730-4C8D-8E34-0BDAF16513A0}"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68B01C7C-2F7F-4B5C-9376-34303AE29172}"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AB915C6-D165-4A59-98B8-CCA6BFBE5A83}"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9E629E6-7D70-41BD-8461-5EDFFEE2DF9F}"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15C2857-BBA6-4CEF-9E29-1E287B305E90}"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33C443-CAE1-4235-9F4A-40C3EE59B4D1}"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6F6858A-29F0-44B1-8D6B-40ABAC82DD2C}"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47A6E0B-CEDD-4816-A847-930603AFB697}"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18CF24E-FB63-4C4C-9C83-5F2E2955866C}"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920140B-3D77-4EDF-A85A-6751711F39B2}"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6CFBA37-5685-4139-A355-62C5C881DA27}"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879D546-280D-47BE-86E2-9ABCFF38FF71}"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FD6692A-CA9D-4D68-928A-A3C9A13153F0}"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AF37C62-DDA7-4795-B21E-C3029B690083}"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D027F2-95DD-4BDD-9659-C29B6A6A07A8}"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