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27F6787-0081-4A45-8C85-AA9367773766}"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EB14CB-2EC3-4B0D-B9D9-3E83E7805D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78DE88D-E58D-427E-8EC7-A6E9347083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0D4376-2C86-4D63-96B5-78C993348CC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AE694B-33BC-42FA-B434-9FDE9D5CA1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E8FA930-5B65-44A7-8528-DB59FB57A4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9F7C747-E1EF-4E2E-AF82-8338555252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50434F-8FD9-4A75-A4E0-DA1771155B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F2B269-B4E8-45E0-B1BA-05BADFF083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6D65069-9AC4-439C-9329-72641FBA6BA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03A40C-E256-49E5-938B-FEF6899789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60CE0C1-55AA-4AAB-9762-A2A835A3716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0C1FD7-6EC4-4D36-BC72-5F85C4E529F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A1A9BAA-2299-4D0A-A4E2-B53FF1897FD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23A28B8-6DEB-4C1F-9DE3-183CC2DE328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64F956-181C-4A0B-B881-7379E654342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331A572-8B59-4FA2-B3DB-A5D8E142AFB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B5E1371-CB72-4359-B4F1-0464654199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5DC6BA08-A83C-4158-A505-7F038A7B19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BD198F0-A32E-4932-BDF0-A7A9A9EE18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0E446E-E6AB-4CF8-87D4-E91FA48487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AF4443C-31FF-4AD3-9CEB-DDC7968A323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92B7ED-4D04-406C-967E-6501E5F53B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1BA112C-1450-4877-ADD5-EC20BBAF8A2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DD50E2-3B4E-4B14-8DEF-9B28497DE8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A39961-F21E-466F-AAD2-E8746F2671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06B59-81E5-4F76-96A6-0552D810729C}"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E7BCB-9B35-48F8-85EF-582DC52D80DE}"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4F7D048-948D-40F1-8C22-FEE5ED8082E5}"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E1C0FA-1C6D-4E74-A65B-C541DA8F4777}"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85DB6B-C59A-4F8B-AF8A-F9D45D90A8D7}"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A614E9-370D-4933-BD07-E17ECCF5DF09}"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775AC9-B662-4048-BA29-B1C8FD0CF1F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7D364E9-6105-4FB4-83FB-9C1B03EF8AB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FE3BE68-D17A-49E2-8D09-F6D564FA1A1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D047A5C-F53B-46CF-B944-ED4E872070A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F3C5301-A1E0-4C02-B732-7F7B23886B38}"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751CC9-8AB5-4A88-BC28-A324BB0F4D8B}"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E67EE58-6CAD-4A25-B016-BC9FDE35794C}"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2EE452-4733-4F67-886B-FAD627A40704}"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DE09EA6-8277-4B2A-98BC-3F82A4D1B423}"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FAC519-C984-4BE1-B208-2DAFE1A3CE9C}"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C51E4EE-C172-4023-9F69-818C3CFD8AD2}"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43FDA9-2885-44E4-8A1F-170818422DB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D19C6D-7DD8-4C5C-AD2F-18D18E710511}"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3D654E4-7458-4353-9B46-94BD05264A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6C70DD07-6085-4F0D-9289-2AC7E4E153A5}"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2FDFC0-C499-471E-9F31-98A6A30600C7}"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7E0CE83-2685-4352-949D-FBC60DA753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EA584F6-B6DF-487F-A9FC-5E3D5D40A4A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CEF1647-26F5-4738-9C45-5808CC348A0F}"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0C3A848-AF04-446B-BFCD-8C0BC9EDD2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7A38728-487A-41ED-99ED-B088AA2F574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92E99F9-8770-4D46-A3BE-91E87F236A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A48DF6-F1C8-480E-BCCF-F047A3A6112F}"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28B1D5-C86B-4A32-81C9-5953998A9DE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CADAD4-E53A-4A9D-BF57-AA1C3D063B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8FEE948-CFA0-45DA-8A4F-0EEE52B309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7824BB7-249C-4B8D-B19F-5F08BD794680}"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8E5EAAA-5FD2-4472-B9EC-862F22F7BC1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F61CEE-2636-42F0-B5E5-83909C3E359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52C8EA0-EC62-4047-9FA4-09EA41CBF90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B40CEC7-8AF0-4A3E-8B5C-42E66C8DB1D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04CD203-827F-4465-B665-1AACC9B406F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7E72F2-7A1B-44ED-8675-32B1E91E95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F13212A-C34C-4837-9DC4-4E5D6CF3724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9A2E070-83FF-4B88-BF90-3A3C2EEA1E6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EDA209D-0A7E-427E-89D0-B4558EF5DE66}"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D4472D-B768-442F-AB77-606915E2C3FA}"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4934285-7E41-4BBD-835C-E324DB141C9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1A4473-41DE-48A1-8185-89F1F632801F}"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AD639C9-9AE3-4E2C-9B3D-D6286BF9A48B}"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C0F9E5-5D3D-4F61-BFBD-0376BE2C55F5}"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CC07287-0CD0-4878-A6B1-8CA0F6078767}"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A06BE7-C842-49D7-BA76-7E04B6F4FF72}"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6001C4-FF8E-4C6B-A466-D1A4E9C3ED96}"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4E410A-758D-44C2-964D-D4B89C804957}"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EE11AEB-8222-4EF1-B435-A6FBDF170D3F}"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E116004-08F8-4508-AA1A-FD79C57CCF9A}"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256DF5-AA54-444B-891F-C4E8F4E6DD5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BAEBD9-E49D-401B-AF5F-26566B5B25F2}"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76A18D-02BD-45E5-B044-3FA1D15979AA}"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7F39A6C-CA50-4A50-93C1-879A21115EB0}"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BC0968-DE16-45D9-8821-537E8DCA4BFE}"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4418A5-B431-49EA-A9E5-8C89AC7A4D9E}"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BD5F8C-FB79-428C-BD6E-2CD5EBD0FF6E}"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8DA47CE-8875-4D8A-B901-8CE5F68B8C4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CCE28B-6312-47E0-9DD5-E4FEF69B6B3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E1FF46E-AB2B-47E1-973B-B7AABAC6B44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769FC74-40B1-4294-889B-DD93D83CBC8B}"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B31098-4AC0-4520-A706-2DAE83A2B0B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6FB931-503E-42C2-B340-F76A2EE6E6AB}"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53E1D0-E25F-4B91-A0A7-22A996E2727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C7BCCAF-C375-4597-AE8C-DEA883001D85}"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2B1701-5260-4B69-B31A-BEAF4908F2B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1423FAB-BAB2-4608-967C-B7CB7F6A1FFF}"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B6C02C-DA6E-4EEA-9A94-6C03A9187F20}"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FA464A-4AFB-4886-B152-A4A159467A21}"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45A55E6-0B58-4916-A730-7582C097BBF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18DB93-D34E-42B1-B977-BB45477035D6}"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F33C536-028E-4766-8F55-9A51BFE1FB28}"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FCC8E5-685E-4B28-A2DB-AC282F60172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9A5FC9-F54E-4E72-B60A-F55A3F719D89}"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9183981-FD6A-4C39-BD90-C9DFE8D21F30}"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589139-A450-46A6-AD83-A1156B7A1C71}"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8D0BAC-B624-4399-A128-8FE8B189391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AEA9F44-74BD-43BE-B115-22A9186445CB}"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13E1941-5C31-4CBA-A3CB-1A2B7E3084D9}"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8DA7EE3-B78A-4E01-85CC-6105035132A9}"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8051E26-1E8C-4910-9D1B-5C24ED72556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F6D0A1-9490-4802-B163-397A7843885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97B98C6-256A-4E7A-8052-248D8322AA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BBA896-9FFD-4865-84ED-6D11A5849EFB}"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76DE5D-DE46-4B83-BE42-3B37C6A8BF01}"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260434-732C-46E3-9262-F04C8D30316C}"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971050-1594-4E3E-9CED-6C3D0EECE5B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BC34D5-5BC0-41BF-B866-59070540DE27}"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7F10263-E7B4-40BE-9952-B74A3E4002D4}"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FD65D2A-12E7-4697-9ABF-316E1AC1A2F8}"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49F77CD-1402-4906-8A76-EAA1FFB5D3CE}"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7A4664-3D7E-4B1E-8A8E-8F56D55C173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9C77FA-0348-4844-9F8C-78BA330E1148}"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5A69E63-959F-4DE4-9351-7A8001A34D20}"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E0C0759-49D9-4882-8185-9916778AE409}"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0ECAA2B-5597-4DA3-A618-A5AF4DB48B3E}"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DB15528-E02A-4678-8045-4E421B788377}"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884DA8-86E1-47E5-A0FE-F15336AD4DE5}"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B26931F-C618-47FE-AA48-1C6CC679D00E}"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B563720-30A1-404A-9BD8-C96098E19D5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9BE282-DBD7-4A1D-9FC9-4B128DB60032}"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ABDA3AF-4530-4A35-B146-63CA68873A58}"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57718B0-9DCC-4DF3-A5E4-BD46EC28071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0B36CA-A026-49C7-AD00-014683B36205}"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A63889E-6425-4F18-A96D-A08A94E508F3}"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EAA45B3-3ABC-4B33-BAC9-50E87EB0FD4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C6ECEB-7E19-4251-ADC4-857A4F153C29}"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6F02039-96D5-4778-BDE2-1F9A113AF359}"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13706F9-8232-4CCB-9FDE-DF8E0AA58463}"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1772D71-171E-4A0E-B29D-B75369A1D32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3509795-2E35-4DC4-8B63-D56981F2BAB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