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B2FD-624E-4A33-BE70-06CB0F426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8F5C-AB08-40AB-9FBA-BAEAB9115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390E-0EF6-4243-ADEE-C2B1CB1ED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EF89-B6FA-47BE-BA76-CDAD8E8A65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BB91-F557-424A-9426-B38748E381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0578-7344-4E92-AF8C-874FFBAB8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0715-6511-4622-A985-D0D161C60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1F51-3060-4228-9BF2-AA1489FB2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58640" y="202680"/>
            <a:ext cx="7467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A82E-6246-41F4-8575-6946C7D97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2293-BFB1-4FAD-81AB-AD9A14708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6993-D43E-4199-B55B-ACECA851C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3A99-C18A-46C0-9058-6F25E7B48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190760" y="6286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AE8A-CC9A-4C10-9BB6-3C75D06B5ED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2560" cy="1587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3333cc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3040"/>
            <a:ext cx="9142560" cy="81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cc9900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294600"/>
            <a:ext cx="2666880" cy="458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934320" y="6246720"/>
            <a:ext cx="1904760" cy="573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291960" y="333360"/>
            <a:ext cx="99072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OMA 2.4 Progress and Pla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tt Haney, Mark Mitchell, James Crotinger, Jeffrey Oldham, and Stephen Sm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tober 22,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s Alamos National Laborat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initial performance measurements indic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kernels are currently about 15% slower than C; we understand the reason and believe we can reduce this difference to ze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already generally performs and scales better than POOMA R1 in tests of a simple 2D diffusion kernel. Speed-up can be as much as 50%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s ranged from 1-400 process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ch sizes ranged from 40K to 2.5M cells/patch with 1-9 patches per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work to date has emphasized abstractions and correct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ath to February 2002 Relea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optimiz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ed up iterate generation by caching iterates, intersections, and guard cell fills and localizing intersection calculatio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iterate scheduling by removing some serialization in guard cell fil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 benefits of consolidating messages and eliminating message cop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optimizing stencils without guard layers and/or implementing “on demand” guard lay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timize iterate performance to reduce field abstraction penalty and obtain C perform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compile times by supporting preinstantiation and removing template dependenc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and document prior to rele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ture Wor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multi-block fields (locally structured, but globally unstructure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and implement support for implicit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type unstructured implement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run time and compile time optim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users guide and reference man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 commun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sk Mitig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2 uses abstraction, encapsulation, flexibility to manage complexity and employs good software engineering. POOMA should be one of multiple approach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is ANSI/ISO standard C++, non-proprietary, and fully open sour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nel and performanc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ximation and CodeSourcery are paid to be responsive. Can easily attract and quickly hire high-quality C++ experts for projec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ding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 interested parties can share cost of POOMA develop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lifetim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 source projects like POOMA can attract significant community support: community helps ensure continu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OMA: Parallel Object-Oriented Methods and Applic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igh-performance C++ toolkit supporting rapid application development in computational physics areas of interest to the Blanca Projec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-material hydrodynamic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tron transpo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pen source template libr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run on platforms ranging from PCs to the largest parallel supercomputers in the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allow computer science experimentation while maintaining a powerful and stable computational physics AP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82600"/>
            <a:ext cx="9903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ed in late 199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te re-design and re-write of POOMA R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abstra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encapsul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flexible and extensib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software enginee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ximately 25 person-years of effort to d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MA 2.4 level of effort is 2.25 F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usage by Blanca in early 200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roject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ish work on a new discrete field abstraction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features to achieve parity with POOMA R1 capabilities and to satisfy Blanca requirement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some non-trivial example/benchmarking code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e run time and compile time performance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technical support to Blanca developer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Continuing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ing code base to production qu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ase POOMA 2.4 at the end of February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w Field Abstrac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1791360"/>
            <a:ext cx="49593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ntering&lt;Di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(FaceType, Continuou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 up centering poi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. . 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eld&lt;Mesh_t, T_t, EngineTag_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numMaterials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yout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3124080"/>
            <a:ext cx="2598840" cy="2598480"/>
            <a:chOff x="457200" y="3124080"/>
            <a:chExt cx="2598840" cy="2598480"/>
          </a:xfrm>
        </p:grpSpPr>
        <p:sp>
          <p:nvSpPr>
            <p:cNvPr id="57" name=""/>
            <p:cNvSpPr/>
            <p:nvPr/>
          </p:nvSpPr>
          <p:spPr>
            <a:xfrm>
              <a:off x="509400" y="3171600"/>
              <a:ext cx="2498760" cy="2498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8960" y="3171600"/>
              <a:ext cx="0" cy="249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9040" y="4420800"/>
              <a:ext cx="2498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" y="37335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3732120"/>
              <a:ext cx="104760" cy="10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" y="498780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1280" y="4984560"/>
              <a:ext cx="10476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340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160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728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5584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53880" y="1609920"/>
            <a:ext cx="294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elds support multi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terials and arbitr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l/face/edge/vert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erings that may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ous or discontinuo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C++ Modeling of Computational Physics Abstrac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1905120"/>
            <a:ext cx="3452760" cy="3504960"/>
            <a:chOff x="228600" y="1905120"/>
            <a:chExt cx="3452760" cy="3504960"/>
          </a:xfrm>
        </p:grpSpPr>
        <p:grpSp>
          <p:nvGrpSpPr>
            <p:cNvPr id="71" name=""/>
            <p:cNvGrpSpPr/>
            <p:nvPr/>
          </p:nvGrpSpPr>
          <p:grpSpPr>
            <a:xfrm>
              <a:off x="696960" y="1905120"/>
              <a:ext cx="2598120" cy="2597760"/>
              <a:chOff x="696960" y="1905120"/>
              <a:chExt cx="2598120" cy="25977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748800" y="1952640"/>
                <a:ext cx="2498400" cy="2498040"/>
                <a:chOff x="748800" y="1952640"/>
                <a:chExt cx="2498400" cy="24980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48800" y="1952640"/>
                  <a:ext cx="2498400" cy="24980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998360" y="1952640"/>
                  <a:ext cx="0" cy="24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748800" y="3201480"/>
                  <a:ext cx="249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696960" y="25142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91040" y="251244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6960" y="376812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91040" y="376596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43160" y="43988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41000" y="1905120"/>
                <a:ext cx="10368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97040" y="4398840"/>
                <a:ext cx="10368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94520" y="1905120"/>
                <a:ext cx="10404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937880" y="3146040"/>
              <a:ext cx="108360" cy="108000"/>
              <a:chOff x="1937880" y="3146040"/>
              <a:chExt cx="108360" cy="108000"/>
            </a:xfrm>
          </p:grpSpPr>
          <p:sp>
            <p:nvSpPr>
              <p:cNvPr id="85" name=""/>
              <p:cNvSpPr/>
              <p:nvPr/>
            </p:nvSpPr>
            <p:spPr>
              <a:xfrm flipH="1" flipV="1">
                <a:off x="194184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193788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328400" y="2515320"/>
              <a:ext cx="108000" cy="107280"/>
              <a:chOff x="1328400" y="2515320"/>
              <a:chExt cx="108000" cy="107280"/>
            </a:xfrm>
          </p:grpSpPr>
          <p:sp>
            <p:nvSpPr>
              <p:cNvPr id="88" name=""/>
              <p:cNvSpPr/>
              <p:nvPr/>
            </p:nvSpPr>
            <p:spPr>
              <a:xfrm flipH="1" flipV="1">
                <a:off x="1332720" y="2515320"/>
                <a:ext cx="103680" cy="10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328400" y="251676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82200" y="3146040"/>
              <a:ext cx="108360" cy="108000"/>
              <a:chOff x="682200" y="3146040"/>
              <a:chExt cx="108360" cy="108000"/>
            </a:xfrm>
          </p:grpSpPr>
          <p:sp>
            <p:nvSpPr>
              <p:cNvPr id="91" name=""/>
              <p:cNvSpPr/>
              <p:nvPr/>
            </p:nvSpPr>
            <p:spPr>
              <a:xfrm flipH="1" flipV="1">
                <a:off x="68616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8220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>
              <a:off x="333000" y="320184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28600" y="3324240"/>
                  <a:ext cx="19044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582560" y="3271680"/>
                  <a:ext cx="27648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957240" y="2681280"/>
                  <a:ext cx="3808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Ñ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36680" y="5029200"/>
                  <a:ext cx="324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pok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Ñ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dian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a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" name=""/>
          <p:cNvSpPr/>
          <p:nvPr/>
        </p:nvSpPr>
        <p:spPr>
          <a:xfrm>
            <a:off x="3733920" y="2819520"/>
            <a:ext cx="609480" cy="838080"/>
          </a:xfrm>
          <a:prstGeom prst="rightArrow">
            <a:avLst>
              <a:gd name="adj1" fmla="val 53028"/>
              <a:gd name="adj2" fmla="val 41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334760" y="1753200"/>
            <a:ext cx="456984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K, cellToSpoke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gradP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dianCell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outwardNormals(mesh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ce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ther Accomplish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ed “relations” that codify the notion of independent and dependent fields and perform lazy evaluation of dependent fiel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capability to read and write POOMA R1 “DiscField” files along with new support for sharing files between SGI and Compaq mach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ability to easily export and import Field data to/from Fortran subrout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d source under QMTest automatic testing harness; started regression te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ed Caramana Hydro and Stratigraphic Flow example cod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xed a (VERY) few bu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de particles classes compatible with the new multi-material fie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umented POOMA for TAU profiling; started performance measurement and optimiz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port for Flexibility and Extensibil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representa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ick, Compressible-brick, Remote, Multi-patch, Analy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ou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Sparse T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# of internal/external guard lay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sh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Non-uniform, Lagrangi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undary Condi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lemented as rel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ant, Reflective, Period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titione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Bi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z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bly out of or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llelis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-threaded (SMAR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5441040"/>
            <a:ext cx="3657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can extend all of thes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Software Engineer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ANSI/ISO Standard C++; POOMA R1 is no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implemented with better low-level abstractions; thus, it easier and faster to implement complex pieces of the framework, as well as complex user co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has more comments and more error check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OOMA R1 versions of these are more complex than the numbers indicate as they involve explicit message pass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658880"/>
          <a:ext cx="8013960" cy="15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658880"/>
                    <a:ext cx="80139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7:33:36Z</dcterms:created>
  <dc:creator>Scott Haney</dc:creator>
  <dc:description/>
  <dc:language>en-US</dc:language>
  <cp:lastModifiedBy>Scott Haney</cp:lastModifiedBy>
  <cp:lastPrinted>2001-10-19T20:42:01Z</cp:lastPrinted>
  <dcterms:modified xsi:type="dcterms:W3CDTF">2001-10-21T23:02:49Z</dcterms:modified>
  <cp:revision>8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8413099</vt:r8>
  </property>
  <property fmtid="{D5CDD505-2E9C-101B-9397-08002B2CF9AE}" pid="3" name="_AuthorEmail">
    <vt:lpwstr>gregw@whitten.net</vt:lpwstr>
  </property>
  <property fmtid="{D5CDD505-2E9C-101B-9397-08002B2CF9AE}" pid="4" name="_AuthorEmailDisplayName">
    <vt:lpwstr>Gregory Whitten</vt:lpwstr>
  </property>
  <property fmtid="{D5CDD505-2E9C-101B-9397-08002B2CF9AE}" pid="5" name="_EmailSubject">
    <vt:lpwstr>LithTech Presentation</vt:lpwstr>
  </property>
</Properties>
</file>