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19A-04CF-41CF-AD02-7C4A7D2F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E6C-30E8-41CB-9F46-546E31F1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1A925-CE74-44C5-9E4C-4449898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AB54E-22E3-47C4-94EC-1B668627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22D77-32D9-4481-A9E8-9DEEC08C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CC5B1-6474-41E6-B2D7-F199786C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5F7E5-0B8A-4A79-98FE-FA625DA9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E1B7E-739D-4DDF-BC5B-E977EB0D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D7227-CB2E-4CE1-94F0-44EAC60C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FA9E3-83B2-41AD-9EBC-D74CB959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F4913-F126-4803-ABFB-FAE5F49D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668B32-37FE-4F07-ADD3-46728664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416-BC21-493D-9E61-4F9EA81C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575513-7579-451F-B2DB-92242D28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E54AA6-9836-4B68-90CD-4C4ACDA9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374626-F76E-4D87-9778-C1D12F9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AC7AEA-FE88-48DE-876B-125F530F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616A9D-E990-4669-B64E-3B40CF89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DB755-1DD2-4B08-9CE7-9D696283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647B11-7A6D-4163-B959-15EBB0A0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30A5A2-5CA0-40D6-941E-9A10293C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712CDB-4248-45A0-9F53-404216C3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2539CE-5445-43D1-849D-D2380D55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A84-F00D-4204-B2FD-520FAFD8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35E2F8-AA7C-40F2-BBA5-1BB1C41D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0E21D-BFF9-42B4-A0E2-7AB3C174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5A81C-6DBA-4D64-91F1-2E8F123C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54321-7C36-48A4-A7E1-02C1403E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9DF6D-0E4B-4F6C-9AA8-2AA7E70C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24B0D-C5F9-4F51-9052-C4CA7E96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C691A-09F0-48E2-A0FD-A12CB5A9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E8EAB-5A69-466C-A103-AABE6DA0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C3E8E-EC08-4CF8-AA29-DCE1BE06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BF856-F29C-48D7-8DC6-2AC0880F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6902-2588-4FC3-8689-67F3CFCC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158E9-9A37-4FBD-BD38-0BA7AE04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508E4-1F04-4910-AEB0-2EE5E3FF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BE6CC-6C7A-4186-9501-88C0F147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9FE90-B4EB-476B-8C33-B0814056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87374-EDAA-44D5-A8E1-BE231EE0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A3F59-3D03-48EC-B015-9D3A86E6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0AF9F-14F2-426F-8C89-66545AFF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5B768-A225-47FD-851E-073FEAF4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85BDA-1A09-4023-B886-6DC23E2A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C8603-F275-452B-86DF-7BD50419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23CA-89A0-422C-AC1C-B3890973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AE488-3AE2-40D3-9F16-EFFDF8A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EAA4A-3294-4C9D-9ADB-CF22ECF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8EA89-FB87-41EE-B587-C69BD6E6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BA0E2-2B47-40F2-97E3-AEA107F6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B60E6-5B4D-4EF7-BEE8-A65BD367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5242-1D6F-46BF-8445-8B824233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A7E7-A792-4F35-929C-7D77249D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82A3-F327-4BA7-8BA9-6CDA51BA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91B6-3699-4298-BE5D-FC580C32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BC08-B8CE-4683-8DD0-CC849B70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528-5269-473C-899F-26412192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43EC-FB04-4681-9EED-D8AE9E71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9868-28F5-4EB1-AF20-F9FD4E9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375C-975F-4028-AA49-F9AF292E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25D8-36E4-44D7-9EEC-7AD30948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68C1-9391-4C38-B551-DBC09E9B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350D-0C01-403F-B441-C05429F6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B7A90-04FB-403E-B56A-B7615BA3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0A46-9CDF-4B26-9DF8-622AFC78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B068-7AB4-41D8-BE57-9568CECC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59EB-536B-4F3F-8111-DE9D1595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F9F-4103-42B1-867D-31231827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9F84-EC08-43C2-A63D-8E084D9D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6813-8A3B-43F4-9F55-3469C48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BA30-8986-4611-8EE5-D20B441C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46B7-D1A0-4888-97F1-3875D31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6777-93E6-411F-ACF8-19948BC8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E569-A33B-4038-B44C-C385DF66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4E60-DB7F-47FF-A326-54A675BF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55DDB-E4D4-4845-9B8F-4A555570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D1A3-E9A6-473F-99DB-E5B24C71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C4AE4-19BA-45DC-BC89-F70637B2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97B-867C-47A5-A02F-E9033EB2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5A6F-C23D-4AC5-B5FF-9B8E1516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7CBB7-DF6E-4BC1-B865-2C6F097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6DC4-C11F-4DE3-84C6-14848B7C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FD48-7672-44E7-B534-FC30D6C1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7685-958F-4E64-B9FB-88C67586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459D0-76C7-4463-BF21-F0C7E895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3C2B2-F8C2-430D-8FE4-BA8A9E6F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016A-A3BF-4705-9E09-16A70941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64DA-AA27-4AFD-B0DA-27CF864E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E156E-7C41-438B-9114-39E525CE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01F-DBBA-4DEF-BE93-9B7749DC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2CD1A-FF9D-41B5-A054-8D55CE6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F636D-5A56-4DB2-993E-0389FDC9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A553D-013D-40A6-A7C8-8CC6A6E8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AAEE9-15A8-47DC-A912-AB3E236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7C1BF-60E1-40A1-894E-F289DFC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99AC4-DF15-44AC-B7BA-58FE6597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88A1C-2FC7-4034-895F-4B6F89B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85BE4-384A-437C-B362-516DAD2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974EC-9830-4D32-9948-CA31ED1E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42101-4E65-438C-AD7B-D2D4B8BB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C37-11B9-4712-814E-EF3E0D44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A454F-0A28-45D9-8AE2-B7413E64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C7C02-FF4C-4F71-8BAA-7848E7EC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D7439-A638-441B-A951-A4C87C83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6D785-23D1-43EF-B7C2-61172296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1D32B-9F93-43E0-9EE9-FEDE1687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9ECB-B720-4F0E-8FB6-A9D3F28C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706D6-CCFA-43A7-84FC-E0EB0EC1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72F0C-A72C-4FBB-935A-281F2D1A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942E-1986-4131-94AC-229C80D8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8F5E-1E2A-46E5-AD59-D0E4BF8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AFF-5D4D-4EEF-B5D1-48841658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9C2A9-4981-4D69-B1FC-01AC078B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5DA9-1535-4984-981C-AA8CF4A8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E8C05-DBFC-4B79-87CD-9EE272A5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0CAC3-A61E-4DB2-AD9C-4BD02E87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A97FB-F3F6-4E74-8742-FE2F9942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C0A93-5ED3-45B8-A8A2-E201E4EE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4DE67-1600-461C-93BF-1DE9E225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75118-66CB-43F6-8666-FB0F2678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6C82-9DC8-4C2D-B4A1-5631E5B6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B3EF5-F9F0-4239-BCFA-BD56D64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CC6-600B-4AE1-92FF-45878A65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DFF0C-BBE4-42D9-8A0C-5058B77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54DBE-FFE3-43B5-B92E-55CE1A98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19FD7-7233-4910-A213-3E010946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F6001-4390-4BD0-A807-E99381E5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38BCF-E3CA-4234-8146-7736F052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20068-F16F-4621-A7E4-0271FA2B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D6AB4-42D6-4981-878E-191224B4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A54AC-E5F7-4A44-AB7D-6E93AB61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6F3F6-5621-4ABC-9D65-9F5A166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929F5-8B60-4EAB-87C7-25680E2C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C99-32EB-4489-A051-AA276D13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0330E-1B3B-4C65-92E5-D2FD4F09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61C7-6804-4A1D-88B5-3B3A40B8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A24E9-5E1B-4BF2-B616-94F13E20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7F78E-4610-4E8C-8949-F332EE7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B871D-AECD-45E8-90AC-8E65442C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E0008-7B08-452F-8D54-65DFDD4B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78AA8-0FC9-47D0-9F5B-98924B6F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AE0F0-13CB-4DD8-839D-94412B49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3B570-58F3-4333-97A3-CC513697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4AA5A-CE00-4291-88A3-54D9E07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CF95-C3D6-4EBD-9327-4B5A2672589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1C5A-3AD6-42B7-97AD-43A4C0222E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A108-26ED-4E5B-9BD7-F7ACFF24AE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8DD2-5327-4B01-8FA8-222FCD969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FD8D-DD2D-42D0-B025-C6BD415B023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7AF6-2970-46DE-B307-9339C701FBE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F004-6A1B-4616-B11E-50C7B982F30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909A-9300-4E3B-9005-AB2CE2C15F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32A1-CCC7-450D-8C2A-D874C68931E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1123-DFA1-4BD0-B4AF-22ACD29075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A208-ECDC-4939-B9B6-BF6E1E8DD9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E2D7-1C9C-49D6-9DD2-762986942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8DA6-0ABF-4D59-B767-FD44E90C5B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E093-F1DC-4711-807A-2997DFF1F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7E19-4466-4E43-B080-58CBEB739C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901C-0D21-474B-A739-6A5801E18F7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CB73-9FEB-4B33-8D70-137C199CD74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DF8-5A13-4501-90CC-565AA39C4F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6D98-ACEE-490B-98A8-812CD8907D3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D0D6-A5EA-4FCB-B696-79D29643BC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60AF-0D46-4351-B4A1-29DEA7A5B1B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6EBC-5CC6-4716-92CF-E530D461DF6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A2D4-66B0-42F4-B41A-3969B2F4F32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087A-A4F4-4743-A690-6FF6ED7ED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570-969F-4922-BFF5-B8252AE9C8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48277-9665-4185-AD1F-855843D696F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F626-C22E-4CFB-BFF3-0EE23F89DF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0FB77B4-E856-41C8-A5BF-1E5462AD3258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50283-A476-428F-BDF9-12D9F61F6C92}" type="slidenum">
              <a:t>3</a:t>
            </a:fld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89F15-E0C7-4561-AB50-DC88AC336D4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6B885F2-1D23-4B60-8D82-C0B85D42E385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3A55D-6332-4DB9-BD4D-108E77655D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BA16959-C5F9-4C5B-9F2A-E095A9102C0E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D6FBB-AFA5-41D6-ACE0-026F2E953B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DD78A99-808F-4B2E-86A9-AE5F202AC707}" type="datetime1">
              <a:rPr lang="en-US"/>
              <a:t>07/31/26</a:t>
            </a:fld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