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E676-17AE-4D22-8F1A-5AAF991E3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C81D-2D80-45E7-8B9B-1BD350D00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EBDD-6684-4779-BC1A-E35B5EC49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E841-0968-4F94-9151-B328F0C0A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3230-F5D2-44AA-B07E-B13BF36EB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F076-550C-4EC2-9332-3F58D97D0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D1E7-BD2F-4EF3-AE62-76C9326F2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5F68-40C0-4A7B-9B65-DEF03ED73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AB20-D22C-49D7-807F-528632C82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723B-1C0D-4DD7-AD59-A8496617E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D7B2-48ED-4852-92D3-F821038FC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191D-83EB-4D02-A74F-5C4529A8C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EBF8F-67AE-41A1-96D7-81ACC5D41C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700200"/>
            <a:ext cx="7391520" cy="5400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20800" y="189000"/>
            <a:ext cx="100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urce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00120" y="380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32080" y="126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lter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228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24240" y="184320"/>
            <a:ext cx="11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71800" y="388800"/>
            <a:ext cx="0" cy="52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24120" y="184320"/>
            <a:ext cx="1024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r Char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380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91520" y="18432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iew Configuration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29440" y="380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534520" y="19494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D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7695720" y="2057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00" y="730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oad/Save Data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61840" y="990720"/>
            <a:ext cx="24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00" y="117468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on Filters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1568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ipeline Brows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6200" y="1752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3244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bject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4844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640080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readshee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809880" y="5714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29400" y="640080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Y Plo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010280" y="56383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18:26:05Z</dcterms:created>
  <dc:creator> Amy Squillacote</dc:creator>
  <dc:description/>
  <dc:language>en-US</dc:language>
  <cp:lastModifiedBy> Amy Squillacote</cp:lastModifiedBy>
  <dcterms:modified xsi:type="dcterms:W3CDTF">2007-08-23T18:58:56Z</dcterms:modified>
  <cp:revision>2</cp:revision>
  <dc:subject/>
  <dc:title>Slide 1</dc:title>
</cp:coreProperties>
</file>