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2104-1DCD-4D22-B410-040D8CC0A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D5A9-DED9-4F15-A1F5-C964461F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FC45-51AA-435D-9B8D-9E6F528B9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98BB-488F-4D12-8B57-8E841F2EF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FDEF-790B-4D61-A680-FDEDB63AD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31EB-2F31-4EF2-8661-5435BAD88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E35A-68E7-4A55-BDD4-2DEC2097A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2F11-FF9A-4D01-9D46-5090741F3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4206-FD70-47B2-B6D1-B7D0A7652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3F61-AD6E-4897-9D70-BC00B5CE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C6FA-6C79-4C61-91BD-0B7B9F27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3EBA-5B8A-461B-9B26-C095B510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692D2-F217-4877-9B07-9A976C760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67120" y="1828800"/>
            <a:ext cx="190512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44880" y="19051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11800" y="2529000"/>
            <a:ext cx="1207800" cy="10652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330200" y="2454120"/>
            <a:ext cx="928800" cy="1203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019400" y="2529000"/>
            <a:ext cx="405000" cy="1069920"/>
          </a:xfrm>
          <a:prstGeom prst="rect">
            <a:avLst/>
          </a:prstGeom>
          <a:solidFill>
            <a:srgbClr val="f7d4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307960" y="3048120"/>
            <a:ext cx="1425600" cy="110880"/>
            <a:chOff x="2307960" y="3048120"/>
            <a:chExt cx="1425600" cy="110880"/>
          </a:xfrm>
        </p:grpSpPr>
        <p:sp>
          <p:nvSpPr>
            <p:cNvPr id="47" name=""/>
            <p:cNvSpPr/>
            <p:nvPr/>
          </p:nvSpPr>
          <p:spPr>
            <a:xfrm>
              <a:off x="3071880" y="3048120"/>
              <a:ext cx="66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71880" y="3048120"/>
              <a:ext cx="20340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2307960" y="3159000"/>
              <a:ext cx="96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668320" y="32004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657600" y="1828800"/>
            <a:ext cx="441972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16880" y="2519280"/>
            <a:ext cx="1207800" cy="10652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94040" y="2517840"/>
            <a:ext cx="405000" cy="1069920"/>
          </a:xfrm>
          <a:prstGeom prst="rect">
            <a:avLst/>
          </a:prstGeom>
          <a:solidFill>
            <a:srgbClr val="f7d4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91120" y="2519280"/>
            <a:ext cx="4572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y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01600" y="2454120"/>
            <a:ext cx="928800" cy="120348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2133360" y="3048120"/>
            <a:ext cx="1425600" cy="110880"/>
            <a:chOff x="2133360" y="3048120"/>
            <a:chExt cx="1425600" cy="110880"/>
          </a:xfrm>
        </p:grpSpPr>
        <p:sp>
          <p:nvSpPr>
            <p:cNvPr id="57" name=""/>
            <p:cNvSpPr/>
            <p:nvPr/>
          </p:nvSpPr>
          <p:spPr>
            <a:xfrm>
              <a:off x="2897280" y="3048120"/>
              <a:ext cx="66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897280" y="3048120"/>
              <a:ext cx="20340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2133360" y="3159000"/>
              <a:ext cx="96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2439720" y="32004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396040" y="2498760"/>
            <a:ext cx="547200" cy="792000"/>
            <a:chOff x="5396040" y="2498760"/>
            <a:chExt cx="547200" cy="792000"/>
          </a:xfrm>
        </p:grpSpPr>
        <p:sp>
          <p:nvSpPr>
            <p:cNvPr id="62" name=""/>
            <p:cNvSpPr/>
            <p:nvPr/>
          </p:nvSpPr>
          <p:spPr>
            <a:xfrm>
              <a:off x="5396040" y="2591640"/>
              <a:ext cx="547200" cy="55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396040" y="2498760"/>
              <a:ext cx="547200" cy="23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396040" y="3057840"/>
              <a:ext cx="547200" cy="23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5127120" y="329076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cal 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04812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9920" y="304812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5360" y="19051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533412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81800" y="156060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4280" y="56116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1143000"/>
            <a:ext cx="7848720" cy="259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0320" y="114300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152388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01640" y="4952880"/>
            <a:ext cx="7848720" cy="1800"/>
          </a:xfrm>
          <a:prstGeom prst="line">
            <a:avLst/>
          </a:prstGeom>
          <a:ln w="76320">
            <a:solidFill>
              <a:srgbClr val="c0c0c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7600" y="45324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1905120"/>
            <a:ext cx="73152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523880" y="1981080"/>
            <a:ext cx="762120" cy="3733920"/>
            <a:chOff x="1523880" y="1981080"/>
            <a:chExt cx="762120" cy="3733920"/>
          </a:xfrm>
        </p:grpSpPr>
        <p:sp>
          <p:nvSpPr>
            <p:cNvPr id="79" name=""/>
            <p:cNvSpPr/>
            <p:nvPr/>
          </p:nvSpPr>
          <p:spPr>
            <a:xfrm>
              <a:off x="15238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6765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2133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2558880" y="1981080"/>
            <a:ext cx="762120" cy="3733920"/>
            <a:chOff x="2558880" y="1981080"/>
            <a:chExt cx="762120" cy="3733920"/>
          </a:xfrm>
        </p:grpSpPr>
        <p:sp>
          <p:nvSpPr>
            <p:cNvPr id="83" name=""/>
            <p:cNvSpPr/>
            <p:nvPr/>
          </p:nvSpPr>
          <p:spPr>
            <a:xfrm>
              <a:off x="25588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7115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3168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3595680" y="1981080"/>
            <a:ext cx="762120" cy="3733920"/>
            <a:chOff x="3595680" y="1981080"/>
            <a:chExt cx="762120" cy="3733920"/>
          </a:xfrm>
        </p:grpSpPr>
        <p:sp>
          <p:nvSpPr>
            <p:cNvPr id="87" name=""/>
            <p:cNvSpPr/>
            <p:nvPr/>
          </p:nvSpPr>
          <p:spPr>
            <a:xfrm>
              <a:off x="35956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7483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42055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632480" y="1981080"/>
            <a:ext cx="761400" cy="3733920"/>
            <a:chOff x="4632480" y="1981080"/>
            <a:chExt cx="761400" cy="3733920"/>
          </a:xfrm>
        </p:grpSpPr>
        <p:sp>
          <p:nvSpPr>
            <p:cNvPr id="91" name=""/>
            <p:cNvSpPr/>
            <p:nvPr/>
          </p:nvSpPr>
          <p:spPr>
            <a:xfrm>
              <a:off x="463248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784760" y="571500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241960" y="1981080"/>
              <a:ext cx="15192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668920" y="1981080"/>
            <a:ext cx="762120" cy="3733920"/>
            <a:chOff x="5668920" y="1981080"/>
            <a:chExt cx="762120" cy="3733920"/>
          </a:xfrm>
        </p:grpSpPr>
        <p:sp>
          <p:nvSpPr>
            <p:cNvPr id="95" name=""/>
            <p:cNvSpPr/>
            <p:nvPr/>
          </p:nvSpPr>
          <p:spPr>
            <a:xfrm>
              <a:off x="566892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2156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627876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6705720" y="1981080"/>
            <a:ext cx="761400" cy="3733920"/>
            <a:chOff x="6705720" y="1981080"/>
            <a:chExt cx="761400" cy="3733920"/>
          </a:xfrm>
        </p:grpSpPr>
        <p:sp>
          <p:nvSpPr>
            <p:cNvPr id="99" name=""/>
            <p:cNvSpPr/>
            <p:nvPr/>
          </p:nvSpPr>
          <p:spPr>
            <a:xfrm>
              <a:off x="6705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858000" y="571500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7315200" y="1981080"/>
              <a:ext cx="15192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09480" y="541008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81800" y="163656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4280" y="56880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219320"/>
            <a:ext cx="7848720" cy="32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840" y="121932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3886200"/>
            <a:ext cx="7467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AJ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160020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5029200"/>
            <a:ext cx="7848720" cy="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5440" y="46083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198108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523880" y="2057400"/>
            <a:ext cx="762120" cy="3733920"/>
            <a:chOff x="1523880" y="2057400"/>
            <a:chExt cx="762120" cy="3733920"/>
          </a:xfrm>
        </p:grpSpPr>
        <p:sp>
          <p:nvSpPr>
            <p:cNvPr id="113" name=""/>
            <p:cNvSpPr/>
            <p:nvPr/>
          </p:nvSpPr>
          <p:spPr>
            <a:xfrm>
              <a:off x="152388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7652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213372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666880" y="2057040"/>
            <a:ext cx="762120" cy="1981440"/>
            <a:chOff x="2666880" y="2057040"/>
            <a:chExt cx="762120" cy="1981440"/>
          </a:xfrm>
        </p:grpSpPr>
        <p:sp>
          <p:nvSpPr>
            <p:cNvPr id="117" name=""/>
            <p:cNvSpPr/>
            <p:nvPr/>
          </p:nvSpPr>
          <p:spPr>
            <a:xfrm>
              <a:off x="2666880" y="2133720"/>
              <a:ext cx="7632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43200" y="403848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352680" y="2057040"/>
              <a:ext cx="7632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105520" y="2057040"/>
            <a:ext cx="761400" cy="1981440"/>
            <a:chOff x="5105520" y="2057040"/>
            <a:chExt cx="761400" cy="1981440"/>
          </a:xfrm>
        </p:grpSpPr>
        <p:sp>
          <p:nvSpPr>
            <p:cNvPr id="121" name=""/>
            <p:cNvSpPr/>
            <p:nvPr/>
          </p:nvSpPr>
          <p:spPr>
            <a:xfrm>
              <a:off x="5105520" y="2133720"/>
              <a:ext cx="7596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81480" y="4038480"/>
              <a:ext cx="60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5790960" y="2057040"/>
              <a:ext cx="7596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3886200" y="2070000"/>
            <a:ext cx="762120" cy="3733920"/>
            <a:chOff x="3886200" y="2070000"/>
            <a:chExt cx="762120" cy="3733920"/>
          </a:xfrm>
        </p:grpSpPr>
        <p:sp>
          <p:nvSpPr>
            <p:cNvPr id="125" name=""/>
            <p:cNvSpPr/>
            <p:nvPr/>
          </p:nvSpPr>
          <p:spPr>
            <a:xfrm>
              <a:off x="3886200" y="20700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38840" y="58039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4496040" y="20700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6172200" y="2057400"/>
            <a:ext cx="762120" cy="3733920"/>
            <a:chOff x="6172200" y="2057400"/>
            <a:chExt cx="762120" cy="3733920"/>
          </a:xfrm>
        </p:grpSpPr>
        <p:sp>
          <p:nvSpPr>
            <p:cNvPr id="129" name=""/>
            <p:cNvSpPr/>
            <p:nvPr/>
          </p:nvSpPr>
          <p:spPr>
            <a:xfrm>
              <a:off x="617220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32484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678204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7086600" y="2057400"/>
            <a:ext cx="762120" cy="3733920"/>
            <a:chOff x="7086600" y="2057400"/>
            <a:chExt cx="762120" cy="3733920"/>
          </a:xfrm>
        </p:grpSpPr>
        <p:sp>
          <p:nvSpPr>
            <p:cNvPr id="133" name=""/>
            <p:cNvSpPr/>
            <p:nvPr/>
          </p:nvSpPr>
          <p:spPr>
            <a:xfrm>
              <a:off x="708660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23924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769644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09480" y="563868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81800" y="186516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975400" y="304812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jax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4280" y="59166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1447920"/>
            <a:ext cx="7848720" cy="32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840" y="144792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3809880"/>
            <a:ext cx="74678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G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182880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5257800"/>
            <a:ext cx="7848720" cy="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95440" y="48369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220968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4495680"/>
            <a:ext cx="7162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22200" y="2286000"/>
            <a:ext cx="730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4495680"/>
            <a:ext cx="7632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47920" y="6019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133720" y="4495680"/>
            <a:ext cx="7596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2209680" y="2285640"/>
            <a:ext cx="763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4495680"/>
            <a:ext cx="2286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6019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029200" y="4495680"/>
            <a:ext cx="15228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514600" y="2286000"/>
            <a:ext cx="685800" cy="1752480"/>
            <a:chOff x="2514600" y="2286000"/>
            <a:chExt cx="685800" cy="1752480"/>
          </a:xfrm>
        </p:grpSpPr>
        <p:sp>
          <p:nvSpPr>
            <p:cNvPr id="157" name=""/>
            <p:cNvSpPr/>
            <p:nvPr/>
          </p:nvSpPr>
          <p:spPr>
            <a:xfrm>
              <a:off x="25146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66688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0481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290760" y="2286000"/>
            <a:ext cx="685800" cy="1752480"/>
            <a:chOff x="3290760" y="2286000"/>
            <a:chExt cx="685800" cy="1752480"/>
          </a:xfrm>
        </p:grpSpPr>
        <p:sp>
          <p:nvSpPr>
            <p:cNvPr id="161" name=""/>
            <p:cNvSpPr/>
            <p:nvPr/>
          </p:nvSpPr>
          <p:spPr>
            <a:xfrm>
              <a:off x="329076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4304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382428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4068720" y="2286000"/>
            <a:ext cx="685800" cy="1752480"/>
            <a:chOff x="4068720" y="2286000"/>
            <a:chExt cx="685800" cy="1752480"/>
          </a:xfrm>
        </p:grpSpPr>
        <p:sp>
          <p:nvSpPr>
            <p:cNvPr id="165" name=""/>
            <p:cNvSpPr/>
            <p:nvPr/>
          </p:nvSpPr>
          <p:spPr>
            <a:xfrm>
              <a:off x="40687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22100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46022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844880" y="2286000"/>
            <a:ext cx="685800" cy="1752480"/>
            <a:chOff x="4844880" y="2286000"/>
            <a:chExt cx="685800" cy="1752480"/>
          </a:xfrm>
        </p:grpSpPr>
        <p:sp>
          <p:nvSpPr>
            <p:cNvPr id="169" name=""/>
            <p:cNvSpPr/>
            <p:nvPr/>
          </p:nvSpPr>
          <p:spPr>
            <a:xfrm>
              <a:off x="484488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9716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53784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5622840" y="2286000"/>
            <a:ext cx="685800" cy="1752480"/>
            <a:chOff x="5622840" y="2286000"/>
            <a:chExt cx="685800" cy="1752480"/>
          </a:xfrm>
        </p:grpSpPr>
        <p:sp>
          <p:nvSpPr>
            <p:cNvPr id="173" name=""/>
            <p:cNvSpPr/>
            <p:nvPr/>
          </p:nvSpPr>
          <p:spPr>
            <a:xfrm>
              <a:off x="56228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7512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615636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400800" y="2286000"/>
            <a:ext cx="685800" cy="1752480"/>
            <a:chOff x="6400800" y="2286000"/>
            <a:chExt cx="685800" cy="1752480"/>
          </a:xfrm>
        </p:grpSpPr>
        <p:sp>
          <p:nvSpPr>
            <p:cNvPr id="177" name=""/>
            <p:cNvSpPr/>
            <p:nvPr/>
          </p:nvSpPr>
          <p:spPr>
            <a:xfrm>
              <a:off x="64008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55308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69343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7162920" y="2286000"/>
            <a:ext cx="685800" cy="1752480"/>
            <a:chOff x="7162920" y="2286000"/>
            <a:chExt cx="685800" cy="1752480"/>
          </a:xfrm>
        </p:grpSpPr>
        <p:sp>
          <p:nvSpPr>
            <p:cNvPr id="181" name=""/>
            <p:cNvSpPr/>
            <p:nvPr/>
          </p:nvSpPr>
          <p:spPr>
            <a:xfrm>
              <a:off x="71629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1520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76964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7010280" y="4495680"/>
            <a:ext cx="2286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238880" y="6019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696080" y="4495680"/>
            <a:ext cx="15264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2T07:08:49Z</dcterms:created>
  <dc:creator>Google</dc:creator>
  <dc:description/>
  <dc:language>en-US</dc:language>
  <cp:lastModifiedBy>Google</cp:lastModifiedBy>
  <dcterms:modified xsi:type="dcterms:W3CDTF">2007-05-22T08:11:38Z</dcterms:modified>
  <cp:revision>17</cp:revision>
  <dc:subject/>
  <dc:title>Slide 1</dc:title>
</cp:coreProperties>
</file>