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F11BD2-EC9B-477F-89D1-5BEFCF4E3E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918C31-9127-45D0-A347-89E5705C1D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BFE65F-AD5F-4D03-943C-29C547B569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EF95E4-F7FD-4697-B046-3C789606AE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01935B7-7897-4953-B94E-D2B1522374C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9C563B-A0A8-4904-8723-57B59D9BB2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BBCCDF-00B0-463A-9A73-8B82E47E74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54ECDD-EE7F-47C1-9930-1ED7635FD4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0C715A-D39C-4AE9-AECD-462F93890B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2484A9-17A0-4FC2-89E7-F466C2791B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1D8D53-12FB-4CDE-9AE8-9616D115CF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00E28F-55CB-4EE2-B65A-5926DC082D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E57931-DC5F-49BE-A619-48873FF2D3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05382C-9B4B-425A-8496-746539EF45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30DBAD-36BA-4281-83BE-98AE9CA670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C15D9D7-B0B3-415E-8214-BC3720DBBB7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AD4586E-E2D4-4FA5-9ABF-367513FECB0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F3283D-54F3-472C-A6A9-1126BDAC1F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7C013B-089F-4EE6-ADB0-8808CCFFF8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5A6F84-4502-4353-852C-EB12F8274B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943459-D177-4646-875F-4C3F1C17EB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AB0C29-8675-42E5-A33D-63B1961F14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5AD1F1-2695-43AC-B1D9-A959135684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505045-5079-4F35-8E03-0D6ED10ED7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A54EB4-AB3F-4B88-B7D8-AC2285936C1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9EB71F-C6AC-48C1-9615-2593ED44792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FDEE865-111B-418E-BDB0-D50BBC3F8BD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9DEE9C3-8803-451A-93DE-4E2406E3F44E}"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785F6B-E7B8-49A3-A56F-D3F5F0452272}"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9EBD09-000E-48E7-AEE4-44111C32FFE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CC5F41-BF4A-49E3-A31E-972214978A02}"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2A4A87-D835-456D-BE9C-5A956A422681}"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FC76D1-4BC5-417A-A6BB-0746AB2D0FB9}"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78245F-0ECC-441B-915E-1AC0DE074B5E}"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C02BCE-1D5B-47F5-913B-8D39966C8C1A}"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6E4F6D-6CCA-4C4A-BC02-959312242C3B}"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258D7C-0FCF-476E-8A18-AA557BEAA9D5}"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BFD3CB-4F81-4441-A561-6242A4B5B4BE}"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4344D1-03C6-4E13-B748-27B71C7CF97D}"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3AFCE5-5734-425F-8B8F-8946826A57EF}"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ADBBEF-E853-4EA8-A57E-43739E369753}"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DF0C99-D3AF-4A67-AF06-4DD8FBA217DF}"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F29412-B348-457F-9078-A4293BDAC5A2}"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6FA998-8A74-4F75-9208-68932AC3372B}"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7A8797-8682-4C31-9BDA-404DB1DDCE9C}"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46D702-3EDF-40DD-86EC-005F76133AC1}"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22690C-422B-4C4E-BA85-17485C403F75}"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89D0BD-FF12-4301-943C-07B46422FD23}"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85CA9E-BCA9-4547-80CC-0CECB4756FAB}"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76B1D3-EBB7-42D5-9E61-8B3748825D4F}"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52D5CF-7476-4E70-8642-00ED899F31D7}"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A9AE50-73FE-492B-A6C4-9AE422F37068}"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1ECE0A-504C-4FDD-B508-08D56FB95C10}"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2B97F2B-6545-481E-9D7D-AF160FE0EF79}"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D2693C-870A-4788-AEAD-90136C52E2B6}"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05C793-6667-46E2-AF44-2166C2569C1B}"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35512B-C993-4600-99B1-3A006297F354}"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1A5860-9253-4A33-8DA7-CBE61A0A9C1B}"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DA9C01-B0D2-4357-B277-EC53060F9642}"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A5F3C7-F2CA-420E-BA33-8FF94A1D5AB4}"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C64F17-EBFD-4038-873B-05C8BBCAC5C6}"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4D55BE-8174-4D25-BB4C-6C08A325A11A}"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553B3E-4278-4204-A2E3-C1264C38A591}"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7EA174-1F13-4692-8454-56FA1E6DFFFA}"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11D33A-FAD4-4E28-84EB-FF599982FB0F}"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08C48E-4498-4A42-9ED2-E45710169BC0}"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4DAEDA-2FA8-4D46-973D-BE7B909DEFB5}"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DB1CCF-039D-427A-A5AB-6769B58EED33}"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5A28FE-3C92-46AC-B2E9-1A22F3DB69DD}"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B89E3C-FE86-4314-B707-4C67F4814194}"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6F78C0-301D-439C-BB18-54BB098D31DE}"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1FD848-066E-4B83-BA07-8040DCEFD52A}"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0E6056-AAF1-44B3-985A-448ADE695C70}"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AD5FCC-7015-4C7E-A9F8-7A9DC019C928}"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9009486-E5C1-4BF4-9B16-3E32FC104988}"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9BFA11-BC71-4299-A38E-DCC37FF6D0F6}"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935E6D-0171-467A-BC17-7D4832E66599}"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E9573D5-47A7-4AAF-BC93-7CF8B7D6E7E3}"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16BCF0-A7E5-42F5-8BAD-4BAC2610F9C0}"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1790CA-97AB-45B6-AA2A-AD38905BB6B9}"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F4F6B0-125E-47F6-A724-17AF51E613A0}"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0F2898-A3EC-437E-B84D-BE82FDA1D8CB}"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F99171-6BF7-406C-87B6-76F7F8C976BE}"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ED998C-1C88-4CCA-9C89-C3259F44F677}"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4C105F-C8C8-4DCD-B90B-E5ADCCCC2828}"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F48AD83-5C30-46A4-9395-D01FF7C86C79}"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AFE83C-AFD6-464C-A232-A7AD09822F19}"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AB1C0B-38D8-477E-AE80-235608DD08FB}"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581756-6118-4C96-87EE-90672256427C}"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2FA03C-490D-4BC3-8811-0C2FB4941032}"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94CCA3-A883-48E1-9E41-44B333F59420}"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FE5EE8C-BD5A-4A2D-8E15-E91EF7D270B4}"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42DACF-9BCB-4227-B84C-33678509F9FB}"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340D74-8647-49C6-A8C6-2812D6176E35}"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A736E1-7854-4F5B-97F0-0BCF80726EF8}"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77D0EE-79B8-4455-864F-F020417FD41B}"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E1266E8-3EDF-4FB6-B8CD-1D6F47C89E6B}"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D61756-B9AD-48C3-A668-890925D6C3CA}"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CBBA24-D0A3-4628-AE07-E5130BEDBCB8}"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E55254-03F4-4B08-9EA3-205741FD7FC0}"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F6A68F-3090-41C8-AEAA-BD3E40A11584}"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A15C79-F46B-4785-94DD-3641D70863EB}"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A8EEA1-2326-4F63-BC25-A96D63020876}"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47992EE-D458-4853-9FC2-209353DBEDF4}"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F029EB-4737-46A6-9F96-9ADC165A1558}"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4F7B7A-CFE4-4541-BBA9-E09280A02EE7}"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28B2BB-960C-4A56-9AEA-4FE77B1C2E26}"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F57E50F-6C16-457C-8E31-D34A07D4F91D}"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4F9219-C2C0-445E-B608-FC2876EEAF96}"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5513905-E320-4F67-A2A4-5DBD0711176F}"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172B14-12B4-4D52-A208-11BF94A83D08}"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CB1987-FC79-48F4-B24D-B159F5111C3F}"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3FEB87-9C03-40BC-9DA0-881F3EA26BD7}"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984FD9-023A-44E8-8682-D254A6B06DC2}"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DA737B-22F2-4624-8E18-FD26045DD561}"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CD518A-D9F4-4216-9295-2A2CE8F19D7B}"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0427C5-E2ED-4D8E-97FE-A7A9D0D35963}"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C2FC3F-DAE6-4AB2-B068-D92E3C9EE185}"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70DF89-7C6E-4868-9302-E3F7ED0FA7E6}"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6E8275-EA8A-4B4E-82C0-5E92E574DF89}"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BC04B1-5271-454E-8107-A8ECFD20096C}"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52917B-1875-446F-9B0B-B2FA82E3C9E1}"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8DD0D3-4F98-45F8-8D1A-CEBCF0BE14A7}"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53BF16-1334-4E98-9D98-429E7B2FE7CB}"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B48898-A942-4C9C-AC5C-13D783F680D2}"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0EA51A1-B3D9-4766-898C-C8487F59A897}"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6E85D5-42D4-45C5-B63A-DA49A14FC7D0}"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D812AD-EABA-4ED8-A96E-2997413C02F9}"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2BD820-B89A-4E4D-B01C-C1C6ECA28CA1}"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F40352-B70E-437E-91D3-8EE44CF0D07B}"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D3BCAD-29B0-48E8-ACF8-F26E13759490}"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F6C356-EBE3-471B-B801-5655131B53DA}"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79CE66-DC17-4E35-B31A-77F0DF9C4364}"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F1C6A0-01A1-4142-B564-D89B1779FDE7}"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4EA9BA-2A8B-4F46-AE7B-990ADF72B15C}"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DA0D36-F0D2-4531-8D7D-BB083752F452}"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AC6BAC-4771-47A8-817A-C2135636547D}"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1AC59C-52C4-487F-9808-467BAFDF003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48718E-2E0D-4D46-B0A5-C0485F2CA09D}"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756086-8128-4271-AF5A-D7527FBAB11B}"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04AEAE-785B-4914-897F-8D530DDF5DAF}"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CE024C-3228-461F-BFD1-E7E03C91633F}"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EC8F0D-05C9-4774-B230-5742EA2A7A1E}"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86353A-A40E-4BA8-8383-CC25E3C3CC78}"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28D195-D486-47B6-A3EA-C0D0B0B7F4AB}"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5D0EB6-6704-4C4A-8972-5DE19936AE5B}"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A5D9D2-6E51-4B34-BB8A-4AC1C029553A}"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7D8526-F4FB-4D70-B19D-68070EEB108A}"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D6A58F-12B9-4AB0-B985-45ECD3D1A0FE}"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2BA8CE-35B6-4D71-A0D2-627F0BB95201}"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E854EB-8127-4701-906B-C1F5D5A06E9D}"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380DC4-7C47-4F0A-A0C9-33935CAE4352}"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252964-ABC7-474D-9E82-89416B9C2FFF}"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590935B-F055-4705-9AFC-1770DDFFB50F}"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73F5C9-C768-410A-936E-6B1FCB85CA0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5654E8-9727-49A5-B00A-FC7E368B49F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E7401D-FC01-4BB3-9F6A-85E55A9AB3D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A53B6F-BEDC-446B-85D0-C57EFC6CC47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B819D7-3649-4D97-9C3F-2E6B672DC50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E7AA4D-E7DB-4D6A-B431-11460E1625D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CEF3BBF-9F50-439F-BC93-D05ACFA3FAA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AF385C-771B-4A01-ABED-CF208DF7B6C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1BF1A8-5856-43E7-94A3-E4F7D0169E5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863F31-B82F-4408-AEFF-E9D7C5D4C9F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86C021-67A9-4516-9A8E-844FDCE25C7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FCAC70-CB5D-4791-BBF1-0EFB4FD95FB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6DFA8C-52DF-4595-AC4C-2BCC2B42DF4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C0F866-3360-4888-A1AC-B0E67B7860C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E39132-2FC0-43FD-94DE-0BDDD0076C6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39F6B2-FB15-4AC5-BFEC-6FC308184B0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0EA3AD-6181-4330-9E7B-0FC356D2491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DAC9BE-4E05-49DF-B577-35F5C74B7C3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16891F-1D1C-485B-A4F4-0874CCEF265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9F9C85-F75F-41D5-825D-6752D7A7DEA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7FD83F-8193-4A0B-AA57-FAF0A0AA9C6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A23FB0-5918-42F1-95CB-851889DCFFC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6BBBA9-567A-4A32-9E00-50B08C9D2A0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B3A82D-CCF5-4CA0-B438-AD159A17324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764787-C420-466D-BE63-32DE3611FF5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135BE9-8A6E-436E-9860-FB81AF8FEF0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8AC5C8-121B-4D69-9E51-F3D6A1F0B5F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5F3ABA-C4E3-471A-AADE-52B7B3B3345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54BB93-3B37-402D-AA7E-393B4C13C07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94C23C-0D29-4F83-A8CB-124919C17A0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55441B-7618-41A1-8AC3-2C0C39A2F4B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D88F21-3711-4813-8C6A-837C80723B4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75B900-B6A6-4BF0-A66F-B8CC99351EB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6A1EB2-7B1B-4D7E-8DE0-0C2C3255C80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396BCD-3880-4942-8C8B-F25765A6D54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DB6AC5-D276-41FE-8533-9F87681A181A}"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DCA18B-9D9A-4057-A1FE-AFB22B15264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D9E4F6-01A1-4894-8934-BA965125D3D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57DA54-3005-44B5-B6FF-01DA7841F0A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A2FFB6-8A36-429C-9FAA-0F8BBA8196C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8D424A-D4DE-4F36-904C-432C72ED2EA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34CB33-E7D7-4C1C-A87F-3A58E1B3F612}"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A8E713-7651-4165-83EB-E7C3C5CFEF8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81A7DD-3FBC-448C-827E-F553D650FFE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14B442-F47F-4583-BAE6-A2243C5C1A1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366C02-F592-4875-8E99-EF35D11C623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B8CB66-2ABA-4DD6-8343-3037C59F5F5E}"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10FC73E-CE7F-4119-BAAC-199F1E15A94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DCE432-B505-4C96-8E5F-B6CD6E4788B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E46730-E12B-42A0-90A8-57A380BD0773}"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92F8FD-CFC1-4B83-8516-1291104C050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B23A09-5C10-4682-9CA2-0C933A7941EB}"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0AAE2A-ECF5-4104-BC0D-23D60F612E7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EF3CF2-2E21-4D29-B041-CF3D663A5B4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67905E-9281-43B8-8039-8C12EA4E9814}"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78A03E-5A71-4272-9B35-587EF2A0CE9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5EF4EA4-AB67-4FA1-8228-A15040B34EE0}"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EC6C27-3C62-4DBE-A8D3-A12CBCA7FC64}"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81D87F-8504-4465-9232-239C7A16E03E}"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C521F2-C010-441D-ACA0-B075B1FFDF68}"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163EB6-4C6A-4BCD-BC09-CD05CC488E3D}"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1F5822-FDDE-4740-B7E4-7A627F6CF462}"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2EF59E-C9EE-49B1-AF2A-80AB539408C2}"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171D05-797C-46A2-AB3F-20F8996B093A}"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14C099-FB62-474B-A0C1-784CD7106EFB}"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9107C6-06EB-4A6C-BC33-8359B87D982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EDA3E1-F475-4D8E-8FEB-4D6041DD7656}"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63B39E-6E2D-4F73-B9B0-8F7C37DCE23F}"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F7212D-A0AA-4D12-980A-C87E9152A7DE}"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703E88-25EB-4F45-80AE-646A5302C5F4}"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1ED282-5606-4327-A7E0-0968D38ED3E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26ED266-4BA7-4559-AB09-D212A96F0ED6}"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834D8E-9FFB-47A4-8168-8785063476C4}"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798C0A-F12E-4037-A89E-66BC45583684}"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D365BB-CF09-4CD4-A022-BD1FC080D98E}"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4E86BD-0F33-4223-BE8B-564C3B259995}"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D23606-EBAF-4764-9EB5-90CA31939534}"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59878B-FF0F-415A-A9B6-2D7013FBEEB5}"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2BA19D-2F05-43CD-B404-B3A3A9054ABC}"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C14B77-F129-467A-B7FF-0DD9EF02D4F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F1AC55-3C78-4B93-9590-17844E7675B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669CF5-6B5B-4A6D-BE6B-97C64484B6FA}"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AB9CF2-65C6-4AE8-A7AC-E95092F9CF0E}"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9C3BBC-83FD-47AD-A7A4-F4D8B6E1CD7A}"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054E2C-9B83-444E-A30C-4314628BE23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