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2D374-C298-4F5F-8D5E-043634E28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2B287-BB21-47F9-AE4C-AEF00D6E3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325F6-1667-4941-BFCD-F1C2584BE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056AC-44AD-4C6F-ADB6-96460700F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E094B-CE35-4637-A586-7A17218F6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B1434-DA82-44AC-9570-7AB04AC6C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30A49-54D7-4D78-B5FE-2B9CBB0F1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AD195-0BF8-4D9A-A1DF-9A2B020BF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F0076-B251-4319-8C88-54F45AE7E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34C2F-5FC0-4890-A790-F50348B25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CE04D-F41D-4A30-9B4E-1A156AB29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9274D-0D7A-49D7-841C-80F2E7C2D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6D3DA-4649-4D5F-AC85-AE056BA114B5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flowChartPrepa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p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flowChartManualIn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flowChartManualOpe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flowChartOffpage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ff-page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flowChartPunchedCar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lowChartPunched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unched 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umming J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flowChar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flowChartCollat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l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Alternat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flowChartSor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flowChartExtra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Ex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flowChartMer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e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tore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prstGeom prst="flowChartMagnetic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equential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gnetic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rect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defined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flowChartInternal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Internal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ulti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Termin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03:09Z</dcterms:created>
  <dc:creator>tb121644</dc:creator>
  <dc:description/>
  <dc:language>en-US</dc:language>
  <cp:lastModifiedBy>tb121644</cp:lastModifiedBy>
  <dcterms:modified xsi:type="dcterms:W3CDTF">2005-05-25T11:15:34Z</dcterms:modified>
  <cp:revision>2</cp:revision>
  <dc:subject/>
  <dc:title>Slide 1</dc:title>
</cp:coreProperties>
</file>