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53CF-92E9-4A30-9F9F-33C5BECF5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F7A4-8459-4B89-AF10-7C69FEC7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93009A-58BB-4016-9BA3-911348A6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41A9EA-028C-430B-A1C2-15702EBF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806F02-0F67-4188-AEAA-B888436F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2CFB9C-BDB6-440E-B219-2DC81C27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0FC24-FCAC-4D4E-9B87-28FE3D53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FE98D0-2DB2-48EB-BD91-9DAA1DCB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431AC7-6522-4AD5-AAF0-8858939D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84CB56-E7C1-40D3-BBBA-B7E50D365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C1EF76-8E18-4E98-8E34-B34724E77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8FB9D7-0EF1-478C-AFF0-04DACD46D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1B6D-A42E-4FF0-B7B4-C63E0EA25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B6EA52-DA47-49F8-AE76-303E0FD3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CEC693-89C1-4585-9047-5FBB9944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0D7286-424C-473A-8011-22957A79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858D19-7EB7-44D5-AE0F-5CD99E8F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2058AD-BFF2-4AEE-8C27-EA126E3F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79A329-21FD-4166-83B5-A969E696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6E2964-6D55-437D-B301-DB7C93C7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A662DA-5CFE-48ED-995A-4E8FF475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96812AA-3A54-413B-9BCD-9C533FAC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F67167-AD80-479C-8232-36EBC29FC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8995-E324-43E1-88D9-D8FEA4BE3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6F8FA7-FB99-48C2-A5B5-E34B0724C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7FDD1E-2B37-4679-8701-889E8F031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CE403-4877-4501-B398-C5D87B63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DB712-81C3-4DA3-AECC-F0CD7329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683A04-D4EF-4349-9FA1-5865494E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E495E-EBC5-4560-8FB5-8C1F4AC4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B115B0-3D5A-4C61-983C-DBEA4C0A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6A289-A2E8-4307-B54D-B112FF8D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C34A48-9D8F-4D2A-A81A-68143169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672C2D-F071-48B5-8C6A-8EF93895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3C610-AAD2-4933-BEC4-825ADB4B3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4162A5-B55C-4470-9219-1668E4ED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C3DFD1-2CC0-4E30-9A2A-1C73C08C5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CA78B-919F-4054-B4A7-E7C951A89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3EC98D-E979-497C-BB1A-D9E8CA9D1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A2B5DF-ED99-421B-A65A-D45D7CCE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9EAEF5-569E-4D7A-8EF9-FD4FD7FE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21B89E-321B-4C70-B44B-F87C4DF3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D639C7-6371-452D-BC75-FA6ACB6B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F83A52-69B5-4F7A-A135-73B6A82D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CFCF1F-270E-4A6F-9A8E-1FF88C28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E76EB-CEBE-4D09-8C1F-0E2BC7C9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5E8478-8C83-4F4D-AAE0-4F8881E4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9B5AB8-C216-46E9-AD63-4421D300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3A94D5-2157-4EA0-940F-6D06217B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FEA753-7092-4B99-AFEF-F5B52B29E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B16397-6E5B-4BEF-94B8-BA2749B4F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CE315-A78D-4A93-A4F3-071DE758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C369-06B9-4114-92BE-7057DC48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D645-663B-4BB6-BF39-6CCF0D65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97B7-7BD4-45E3-BB82-15E0D095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C26B-60C6-46BE-B2E5-EE00D7D3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0C95-77C9-43E6-91BE-FE00BB5E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0340-5A6E-4D69-B74C-8F34352B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D1D8-2E7F-4C26-9D6C-B92032C9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6D25-0E8E-48A8-AD26-504D442A0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416D-345D-44F5-BFF3-70EE75D25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4FFA-3D8F-47AF-9C6B-58BBA6C44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47E03-EA5B-4331-B9D8-67D4A5AA8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BAEC5-7FD6-4D4A-9E2D-43F68C52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55CAC-7128-4212-8383-B8B95902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910F1-0002-48E7-9B5E-B641C2A7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9E2B8-2AE2-42CD-8401-B29DC9DA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733F-1CCA-49A7-A63F-ACCCA8BA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36107-C303-4903-A97D-8F856FD2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4A87B-0C9C-48BE-AB2C-3E62BDD2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BF786-CD42-4F65-824C-4FFC6363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7473F-A20B-4DEA-85DD-98EEC4A3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34D79-2F28-4494-9197-4D88CBEB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23422-01FD-4D1D-8433-6243357BB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8B39F-32D6-4F04-8824-1295E5BF7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8955B-979E-4989-88B2-F8D75282B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28E1A-50A9-433B-8969-97F60832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F5CD9-ED2A-471D-BEBD-B82A879F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2C6C-DAFA-44AF-B1AD-C0D2330B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D2011-5D92-44E0-B475-0AC90DE5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D8B6E-5ABC-4013-8ECE-207047AC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27186-CCC6-41D4-BE90-CD1E0CF1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93F41-A07E-4152-9FF5-F36A5F90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4A1B1-76FE-4CBF-AA82-4097F53E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E2D1F-7EBF-4A10-A1BA-BF4EE344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6A001-4817-45B2-9703-AF4A1387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1A377-EB5E-4246-B400-1533E47F4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ED3B1-5772-48CD-9640-E4E98A3E6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29DCFE-62B0-4E98-B0AE-A8F764332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A6C5-B462-43CD-A832-03C5E0F2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D47F9B-D603-442D-BD30-D08E5579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54C6C1-7842-4D10-BF45-832872AB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5EE868-272C-4378-8038-6541A7C7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368E31-EBBD-4CDD-BD18-93638FD0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E1C941-BD5A-42DF-B897-6CCC284C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F9C092-B420-49D1-97FD-669105C3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733D1E-5739-48A7-85B9-02484C63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36B683-0C2A-4A3A-82A8-F3BBA612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0EC1CE-D6FA-486C-9A32-40F6C34F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E5866C-2967-4C72-911C-776B537FD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B4A8-9568-4002-B2FB-AF03D2DE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404A2F-258E-43B1-B095-FC92EF43C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12CFB-5782-4891-9DF1-9CD9AD2AE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4E89F-FFA2-4D6A-82AC-F37EECC7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816BF-FBC0-4B54-A7D0-6B884391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49BA3-F508-4EEC-838F-A36F19FB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9EB4B-C7FB-46C3-AD24-1C9CEAC6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9B083-8EC1-4823-81EF-A0322A51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F337A-387F-4978-8DB5-A2A4CB3D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840D5-A847-4187-AA49-3C475D5A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B68AA-DD8D-4122-8F0A-1B7D88DF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C737-4890-430A-B19B-480B98B3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2ACDE-3461-442F-B8C4-7FEA1FE4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A7B80-03DB-433B-AC97-3DE60CAB6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19A22-4646-4201-A471-E9668FD48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4263F-8791-4E58-90EE-04A5FF042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4F5B5-E2A6-4F71-B8A3-F32042DF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63984-D1A2-4D4D-B600-25CB4D7F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63E04-C8C9-4495-8E0B-14F70B0A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56249-2FC5-4E0D-9D81-FE2E5A27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7B8CC-E215-47A6-B96C-82A8752A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A84E7-A63C-450F-9BFE-A01E6F8A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3B67-29A5-4AA4-8122-6AB8C653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EF7F7-DC6D-4256-B2D9-FB4B34AB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C2D4F-83B9-4231-9623-19AD648D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A5548-848F-4EC0-A88E-7AB0CBAC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B494A-63FA-4038-A228-9C1E7ABEE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495EB-6676-44BB-8A03-CB72CEA40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812DA-DFC2-40BD-9B01-D05B2B10A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83325-9356-4329-9BEE-0783C15A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07F05-86FC-4E22-BB4F-4DE4011F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35C4A-CE71-45A2-91E8-415A9057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AF5AB-B2F5-4779-B5A6-05E368F1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95B4-549F-4F68-96DF-987B115B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C39A5-D9EF-42D2-B9F0-FD1F52B9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53191-5D95-4A77-995C-D0C9B4CA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3AE05-B030-4BEC-9EDA-39E2411F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F4157-2DCD-460F-922B-1F149F7C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90A7C-9677-40FB-AAEA-9B23BF72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A4384-B911-46DB-A9A0-20854378C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D4AF5-7FAB-4FD9-81A1-15B752632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D70369-3AF9-4E68-BF88-68907B348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48BF06-13F9-4FB0-8C22-E1FA629A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F5ED2C-8617-4357-B552-E375EB64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755C-A3CE-4F12-9342-910E82E36B1F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2A59-97B1-42BF-B441-01C6935CD3E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6948-A2AE-4E0D-AB25-1DE739AA0AF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6DDD-5C07-458B-B005-F364AF1E6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57A3-D1B0-4E86-BA56-D31EE75B5AA9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DE35-947D-4BA6-91C3-370678429FB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D05F-C333-4F35-8015-47891D3AB700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2D73-B02D-4B32-9B5B-FB264F46E69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B1E7-D2C1-431F-8E33-CAC277835F9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C33B-18A3-4C85-B69B-D64136DB320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48E8-1913-405A-AC79-3675C9E602D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3C4F-038D-4182-8CE5-D1F13B86A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283A-3391-4D5C-9CDE-451994630B1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24F2-6951-478D-8681-AE16DDCF2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5224-05A4-471F-9EA2-24AA865DF26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712B-B3BA-4F74-BB54-FA1944FAC446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EF16-D1B1-4C0E-9D9E-3F9B4807D293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EA4D-19E1-4C63-A13C-8F4CC57614D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8C40-0BC0-4AB5-9EDE-F6C5D9B57308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065B-50E4-44AC-9123-AF9FEB4C109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EC76-E96F-4C2A-9CC8-4C98B41BA78A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3759-ADFE-4AF2-BDFB-C25C273029A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BBE5-7976-48EC-B965-F2A2B58989A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3AB6-AC17-4A4F-A6E6-65DA96698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D8A5-3C4F-4BB5-AED5-2C9F816FC75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779257-A41A-49B0-A870-5BB1ADE12262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369B4-8F9C-4E62-A369-150714473E1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E7DA21A4-ADF0-4CE2-9244-D91C8BC8CD52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heel(8)" transition="out">
                                      <p:cBhvr additive="repl">
                                        <p:cTn id="119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ED252-2E1D-4A94-9AEE-269980BD6F30}" type="slidenum">
              <a:t>3</a:t>
            </a:fld>
          </a:p>
        </p:txBody>
      </p:sp>
    </p:spTree>
  </p:cSld>
  <p:transition>
    <p:comb dir="horz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9449AE-6A45-44E6-B205-E14031EF0873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FBE640EB-2FE8-47EB-B3D4-1C6BDAF8EED2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80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626B8-4C3E-42DB-82A4-68B6D9740DE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88FF8106-FB4F-43A1-9008-5FFFCAFFB678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000"/>
                            </p:stCondLst>
                            <p:childTnLst>
                              <p:par>
                                <p:cTn id="2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000"/>
                            </p:stCondLst>
                            <p:childTnLst>
                              <p:par>
                                <p:cTn id="3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9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14640-86C1-46A3-830C-25C1C7A4E2E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FFE6AEC0-46CE-43E1-A95B-83FD337CB6C6}" type="datetime1">
              <a:rPr lang="en-US"/>
              <a:t>07/30/26</a:t>
            </a:fld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