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D4841-0D49-4ACD-80F6-35431DDC9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04B52-7255-4EEA-9504-735DC9822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3EC0-9DE0-4173-A12A-4964B626E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6AF98-A34F-402F-8F8B-A681FD764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0E0E2-CED8-4353-8900-886100B9E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BFAA7-7A4A-4486-80B4-1D4743D6D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1CDAB-F3C2-4D58-9C8E-4EB65AD28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1AC1A-8BB3-4217-B1B7-2DF6774B2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AA58-A99F-4EFE-BB6D-14420CEFDD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11011-2074-437C-8224-D76E6F115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2DADE-F4C6-4E24-9D65-7A4B24199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05ABE-08A5-4D56-889D-6FB869856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7EE78-00B7-4807-9ED7-0E78BCA84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mailto:edward@jsunit.net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programming.com/software.htm" TargetMode="External"/><Relationship Id="rId2" Type="http://schemas.openxmlformats.org/officeDocument/2006/relationships/hyperlink" Target="http://xprogramming.com/software.htm" TargetMode="External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jsunit.net/" TargetMode="External"/><Relationship Id="rId2" Type="http://schemas.openxmlformats.org/officeDocument/2006/relationships/hyperlink" Target="http://www.jsunit.net/" TargetMode="External"/><Relationship Id="rId3" Type="http://schemas.openxmlformats.org/officeDocument/2006/relationships/hyperlink" Target="http://www.jsunit.net/" TargetMode="External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599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</a:t>
            </a:r>
            <a:br>
              <a:rPr sz="4400"/>
            </a:b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8960" y="3428640"/>
            <a:ext cx="69339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introduction to unit testing in-browser JavaScript with 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Hieat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edward@jsunit.n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bruary, 200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sUnit version 2.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295280" y="5638680"/>
            <a:ext cx="6934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808080"/>
                </a:solidFill>
                <a:latin typeface="Arial"/>
              </a:rPr>
              <a:t>Note: this presentation assumes the reader/audience is familiar with basic unit testing concep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 Tracing (debugging outpu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ncludes certain functions that output “traces” to a debugging wind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 way to view output without using JavaScript “alerts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ing is an alternative to a debugger if one is not available for a certain browser/platfo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are 3 trace funct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debug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warn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nform(message)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level 1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a particular run of the tests, you can set the trace level to any of the 3 leve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ces cascade, i.e. trace message at lower levels show up when the level is set hig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upported Browsers/O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S Internet Explorer 5.5+ o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ndows NT/2000/XP/9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c OS 9,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cko-based 0.9.4+ browsers on all platforms, e.g.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zilla 0.9.4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refox 0.9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tscape 6.2.3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Konqueror 5+ on Linux KDE 3.0.1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fari 1.2+ on Mac OS 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the most FA’d Q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is not usually appropriate for submitting forms/other navigation that interacts with a web serv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t is intended to test purely client-side functionality – it’s a unit testing framework of the in-browser JavaScript that usually lives in .js files included by generated/static HTML pag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“walking through” a web application should be done in HTTPUnit/JWeb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most cases, the desire to submit a form points at the need to instead mock out the submission in order to create a true unit tes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ever, there is currently work in progress to support the ability for a Test Page to submit a form in a separate page that lives in a Frame/IFrame in the 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The automation of runs of JsUnit Test Pages/Suites on multiple local or remote browsers/OSs from an Ant script or JUnit suite (and hence in a continuous build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29600" cy="7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oals of automated test ru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14300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have seen how JsUnit allows you to run your tests in almost any particular browser on most O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desirable to be able to easily run your tests in 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al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f your target browser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ile you are writing code and tests, without having to manually start up each browser and press “Run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s part of a regression test suite in a continuous bui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is also important that the tests be run on target browsers on all the target OSs, rather than just one mach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want to get instant feedback on which test failed on which browser on which OS, and also create logs of each test r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t is, we don’t want to have to get out of our seat and go to a bank of test machines running various browsers – we want visual or programmatic feedback, as we get with the green ba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on on a single machine: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142640"/>
            <a:ext cx="82296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JsUnit provides a Java JUnit TestCase class called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et.jsunit.StandaloneTes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loneTest can be invoked from the JsUnit Ant build.xm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ou can configure StandaloneTest with respect to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browsers to run tests in (a list of paths to browser executabl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ich Test Page to run (usually it is your highest-level Test Suite Page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hen run, StandaloneTest starts each browser in turn and runs the specified Test Page without any user inter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f any test fails in any of the browsers, Standalone Test fails with a failure message indicating which test failed in which brows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 for the machine we are using with the push of a butt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starts a lightweight Java HTTP server called the JsUnitServ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ach browser is launched as an external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tain parameters are passed in the TestRunner URL that tell the test runner to collect results in a form field and submit the form to the JsUnitServer over HTT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JsUnitServer waits for all browsers to finish, and inspects the submitted resul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any browser fails, StandaloneTest fai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utomation on multiple machines: DistributedTes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80520" y="1143000"/>
            <a:ext cx="81536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andaloneTest allows for automated runs on a single machine, but we still need to be able to automatically launch all our tests on all target O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means we need to be able to programmatically kick off JsUnit tests on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sUnit provides a second Java JUnit TestCase class called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net.jsunit.DistributedTe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istributedTest is configured to be aware of a list of multiple remote machin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n run, DistributedTest asks each remote machine in turn to run specified Tests on the browsers relevant for the respective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ach remote machine runs the specified tests on each browser relevant to its 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f any test fails on any browser on any remote machine, DistributedTest fails with an error message indicating the failu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 this way, we can repeatedly run our Test pages on all target browser/OS combinations with the push of a butt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tributedTest: how it wor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tart a JsUnit server on each remote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 server is configured with target browsers for its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servers listen for requests from DistributedTest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Test tells each remote JsUnit server (over HTTP)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JsUnitServer runs StandaloneT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ach JsUnitServer, if any test fails on any browser, a failure message is sent back to DistributedTest; otherwise a success message is returned (the messages are XML string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any failure message is received, DistributedTest fa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unning in a continuous bui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andaloneTest can be repeatedly run by a developer as he/she is writing code and tes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ever, StandaloneTest is a JUnit test, so it can be added to a JUnit suite just like any other test, and thereby run in a continuous buil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ternatively, because JsUnit can be launched from Ant, the Ant task can be added to a continuous build (such as Anthill or Cruise Contr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Par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Writing and manually running JavaScript Tests with the XUnit framework for in-browser JavaScrip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tandaloneTest: Logg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each run, StandaloneTest writes a log file to dis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filename is generated (and unique) or it can be specified by a parameter in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log file format matches JUnit’s; the details of each Test Function are giv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 Log F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914400" y="1447920"/>
            <a:ext cx="7543800" cy="485748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8601120" y="6019920"/>
            <a:ext cx="542880" cy="74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an XUnit framework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standardized set of language-independent concepts and constructs for writing and running unit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an XUnit framework for virtually every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amples are JUnit for Java, CppUnit for C++, PHPUnit for PHP, UTPL/SQL for Oracle SQ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aditionally open-sour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support certain construct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Case and TestSuite are well-defined ent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ssertion syntax follows rough standards, e.g. assertEquals(comment, expected, actu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provide a TestRunner program to run tes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ed at 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xprogramming.com/software.ht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sUnit: backgroun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XUnit framework for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www.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jsunit</a:t>
            </a: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.n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n source (hosted on Sourcefor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eserves the standards of a typical XUnit framewor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ten in 100% Java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uns on “most” browser/platform combin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velopment began in early 200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~10,000 downloads and ~1000 members of the news grou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JsUnit: conforming to XUni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t tests in JsUnit are calle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Functions live in an HTML page calle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P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Test Page is any HTML page that has a JavaScript “include” of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Core.j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rovides the assertion functions of JsUnit, e.g.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assertEquals(comment, arg1, arg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sUnit supports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tUp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arDown(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st Suite Pag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clare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uite(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unction that returns a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JsUnitTestSuit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for grouping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JsUnit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stRunner.html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ge runs Test P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TestRunner HTML page can be run from a file server or a web serv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it &lt;-&gt; JsUni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4953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s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Functio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clude jsunit/app/jsUnitCore.j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Suite Pages (HTM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HTML/JS TestRunn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unction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browser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Scrip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151920" y="1600200"/>
            <a:ext cx="4343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JUn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Method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Class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tend junit.framework.TestCa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junit.framework.TestS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WT/Swing/IDE TestRun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blic void setUp(), tearDown(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s in the target Java V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ure Ja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880" y="7596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1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some simple math (code in Test Pag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600" y="914400"/>
            <a:ext cx="86868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 src="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../app/jsUnitCore.js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multiplyAndAddFiv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arg1, arg2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eturn arg1*arg2+5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2 times 3 plus 5 is 11", 11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work with negative numbers", -15, multiplyAndAddFive(-4, 5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WithInvalidArgument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null argument", multiplyAndAddFive(2, null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tring argument", multiplyAndAddFive(2, "a string"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ull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undefined argument", multiplyAndAddFive(2,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JSUNIT_UNDEFINED_VALU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200" spc="-1" strike="noStrike">
                <a:solidFill>
                  <a:srgbClr val="0000cc"/>
                </a:solidFill>
                <a:latin typeface="Courier New"/>
              </a:rPr>
              <a:t>testStrictReturnType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200" spc="-1" strike="noStrike">
                <a:solidFill>
                  <a:srgbClr val="00cc00"/>
                </a:solidFill>
                <a:latin typeface="Courier New"/>
              </a:rPr>
              <a:t>assertNotEquals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("Should return a number, not a string", "11", multiplyAndAddFive(2, 3)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 Test Page for multiplyAndAddFive(arg1, arg2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8440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Page example 2: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ing form field/DOM interaction (code in .js fil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2280" y="685800"/>
            <a:ext cx="883944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jsunit/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pp/jsUnitCor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 src=“/path/to/my/app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/myCode.j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"&gt;&lt;/script&gt;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</a:rPr>
              <a:t>//contains a “validate” func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script language="JavaScript"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setU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foo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InitialCondition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PushOK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No value in field 2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testFillingInField2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bar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shOKButton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assertEquals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“Good values”, document.getElementById(“resultMessage”).innerHTML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</a:t>
            </a:r>
            <a:r>
              <a:rPr b="1" lang="en-US" sz="1000" spc="-1" strike="noStrike">
                <a:solidFill>
                  <a:srgbClr val="00cc00"/>
                </a:solidFill>
                <a:latin typeface="Courier New"/>
              </a:rPr>
              <a:t>tearDow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1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document.myForm.field2.value=“”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unction pushOKButton() 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alidate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script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ead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form name=“myForm”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text” name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field1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div id=“</a:t>
            </a:r>
            <a:r>
              <a:rPr b="1" lang="en-US" sz="1000" spc="-1" strike="noStrike">
                <a:solidFill>
                  <a:srgbClr val="0000cc"/>
                </a:solidFill>
                <a:latin typeface="Courier New"/>
              </a:rPr>
              <a:t>resultMessag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”&gt;&lt;/div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input type=“button” value=“OK” onclick=“validate()”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form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body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</a:rPr>
              <a:t>&lt;/html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sUnit: the TestRun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8305920" y="5943600"/>
            <a:ext cx="542880" cy="74304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"/>
          <p:cNvPicPr/>
          <p:nvPr/>
        </p:nvPicPr>
        <p:blipFill>
          <a:blip r:embed="rId2"/>
          <a:stretch/>
        </p:blipFill>
        <p:spPr>
          <a:xfrm>
            <a:off x="76320" y="914400"/>
            <a:ext cx="8065800" cy="585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23T15:55:42Z</dcterms:created>
  <dc:creator>Edward Hieatt</dc:creator>
  <dc:description/>
  <dc:language>en-US</dc:language>
  <cp:lastModifiedBy>Edward Hieatt</cp:lastModifiedBy>
  <dcterms:modified xsi:type="dcterms:W3CDTF">2007-02-18T21:34:52Z</dcterms:modified>
  <cp:revision>353</cp:revision>
  <dc:subject/>
  <dc:title>JsUnit</dc:title>
</cp:coreProperties>
</file>