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.jpeg" ContentType="image/jpeg"/>
  <Override PartName="/ppt/media/image35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69328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3880" y="3954600"/>
            <a:ext cx="69328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388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7636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67840" y="144792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11800" y="144792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3880" y="395460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67840" y="395460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11800" y="395460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3880" y="1447920"/>
            <a:ext cx="69328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69328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3880" y="338040"/>
            <a:ext cx="69328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636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4600"/>
            <a:ext cx="69328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133344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447920" y="6324480"/>
            <a:ext cx="1904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05320" y="6324480"/>
            <a:ext cx="2895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040520" y="101520"/>
            <a:ext cx="1992240" cy="417600"/>
            <a:chOff x="7040520" y="101520"/>
            <a:chExt cx="1992240" cy="417600"/>
          </a:xfrm>
        </p:grpSpPr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8405640" y="101520"/>
              <a:ext cx="6271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5"/>
            <a:stretch/>
          </p:blipFill>
          <p:spPr>
            <a:xfrm>
              <a:off x="7040520" y="142920"/>
              <a:ext cx="1336680" cy="33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" name=""/>
          <p:cNvGrpSpPr/>
          <p:nvPr/>
        </p:nvGrpSpPr>
        <p:grpSpPr>
          <a:xfrm>
            <a:off x="8458200" y="6561000"/>
            <a:ext cx="685800" cy="348840"/>
            <a:chOff x="8458200" y="6561000"/>
            <a:chExt cx="685800" cy="348840"/>
          </a:xfrm>
        </p:grpSpPr>
        <p:sp>
          <p:nvSpPr>
            <p:cNvPr id="8" name=""/>
            <p:cNvSpPr/>
            <p:nvPr/>
          </p:nvSpPr>
          <p:spPr>
            <a:xfrm>
              <a:off x="8458200" y="6561000"/>
              <a:ext cx="68580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58200" y="6561000"/>
              <a:ext cx="6858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E8B017A-0C0B-4D4D-BD34-A9F95DBE1134}" type="slidenum">
                <a:rPr b="0" lang="en-GB" sz="900" spc="-1" strike="noStrike">
                  <a:solidFill>
                    <a:srgbClr val="3333cc"/>
                  </a:solidFill>
                  <a:latin typeface="Times New Roman"/>
                </a:rPr>
                <a:t>&lt;number&gt;</a:t>
              </a:fld>
              <a:r>
                <a:rPr b="0" lang="en-GB" sz="900" spc="-1" strike="noStrike">
                  <a:solidFill>
                    <a:srgbClr val="3333cc"/>
                  </a:solidFill>
                  <a:latin typeface="Times New Roman"/>
                </a:rPr>
                <a:t> of 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523880" y="1447920"/>
            <a:ext cx="69328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nalysis/proserver/" TargetMode="External"/><Relationship Id="rId2" Type="http://schemas.openxmlformats.org/officeDocument/2006/relationships/hyperlink" Target="http://das.sanger.ac.uk/registry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formats/GFF/" TargetMode="External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ensembl.org/Homo_sapiens/contigview?data_URL=http://www.ensembl.org/info/data/external_data/examples/url_bed.txt" TargetMode="External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formats/GFF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search.cpan.org/~rpettett/Bio-DasLite-0.14" TargetMode="External"/><Relationship Id="rId2" Type="http://schemas.openxmlformats.org/officeDocument/2006/relationships/hyperlink" Target="http://www.biodas.org/download/Bio::Das" TargetMode="Externa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nsembl.org/das/Homo_sapiens.current.reference/entry_points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0360" y="639720"/>
            <a:ext cx="738504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a40000"/>
                </a:solidFill>
                <a:latin typeface="Arial"/>
              </a:rPr>
              <a:t>Ensembl and DAS 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073400" y="5278320"/>
            <a:ext cx="4499280" cy="1046160"/>
            <a:chOff x="4073400" y="5278320"/>
            <a:chExt cx="4499280" cy="1046160"/>
          </a:xfrm>
        </p:grpSpPr>
        <p:sp>
          <p:nvSpPr>
            <p:cNvPr id="50" name=""/>
            <p:cNvSpPr/>
            <p:nvPr/>
          </p:nvSpPr>
          <p:spPr>
            <a:xfrm>
              <a:off x="4073400" y="5278320"/>
              <a:ext cx="4499280" cy="38124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73400" y="5278320"/>
              <a:ext cx="449928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3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Eugene Kulesh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Wellcome Trust Sanger Instit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April 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212040" y="6462720"/>
            <a:ext cx="912960" cy="26424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70360" y="3343320"/>
            <a:ext cx="1471680" cy="139212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3657600" y="3089160"/>
            <a:ext cx="1762200" cy="1787760"/>
            <a:chOff x="3657600" y="3089160"/>
            <a:chExt cx="1762200" cy="1787760"/>
          </a:xfrm>
        </p:grpSpPr>
        <p:grpSp>
          <p:nvGrpSpPr>
            <p:cNvPr id="55" name=""/>
            <p:cNvGrpSpPr/>
            <p:nvPr/>
          </p:nvGrpSpPr>
          <p:grpSpPr>
            <a:xfrm>
              <a:off x="3657600" y="3089160"/>
              <a:ext cx="1762200" cy="1787760"/>
              <a:chOff x="3657600" y="3089160"/>
              <a:chExt cx="1762200" cy="1787760"/>
            </a:xfrm>
          </p:grpSpPr>
          <p:sp>
            <p:nvSpPr>
              <p:cNvPr id="56" name=""/>
              <p:cNvSpPr/>
              <p:nvPr/>
            </p:nvSpPr>
            <p:spPr>
              <a:xfrm>
                <a:off x="3657600" y="3089160"/>
                <a:ext cx="1762200" cy="1787760"/>
              </a:xfrm>
              <a:custGeom>
                <a:avLst/>
                <a:gdLst/>
                <a:ahLst/>
                <a:rect l="l" t="t" r="r" b="b"/>
                <a:pathLst>
                  <a:path w="4896" h="4967">
                    <a:moveTo>
                      <a:pt x="2447" y="0"/>
                    </a:moveTo>
                    <a:cubicBezTo>
                      <a:pt x="1112" y="0"/>
                      <a:pt x="0" y="282"/>
                      <a:pt x="0" y="620"/>
                    </a:cubicBezTo>
                    <a:lnTo>
                      <a:pt x="0" y="4346"/>
                    </a:lnTo>
                    <a:cubicBezTo>
                      <a:pt x="0" y="4684"/>
                      <a:pt x="1112" y="4966"/>
                      <a:pt x="2447" y="4966"/>
                    </a:cubicBezTo>
                    <a:cubicBezTo>
                      <a:pt x="3783" y="4966"/>
                      <a:pt x="4895" y="4684"/>
                      <a:pt x="4895" y="4346"/>
                    </a:cubicBezTo>
                    <a:lnTo>
                      <a:pt x="4895" y="620"/>
                    </a:lnTo>
                    <a:cubicBezTo>
                      <a:pt x="4895" y="282"/>
                      <a:pt x="3783" y="0"/>
                      <a:pt x="2447" y="0"/>
                    </a:cubicBezTo>
                  </a:path>
                </a:pathLst>
              </a:custGeom>
              <a:solidFill>
                <a:srgbClr val="0099ff">
                  <a:alpha val="3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657600" y="3089160"/>
                <a:ext cx="1762200" cy="447840"/>
              </a:xfrm>
              <a:custGeom>
                <a:avLst/>
                <a:gdLst/>
                <a:ahLst/>
                <a:rect l="l" t="t" r="r" b="b"/>
                <a:pathLst>
                  <a:path w="4896" h="1242">
                    <a:moveTo>
                      <a:pt x="2447" y="0"/>
                    </a:moveTo>
                    <a:cubicBezTo>
                      <a:pt x="1112" y="0"/>
                      <a:pt x="0" y="282"/>
                      <a:pt x="0" y="621"/>
                    </a:cubicBezTo>
                    <a:cubicBezTo>
                      <a:pt x="0" y="960"/>
                      <a:pt x="1112" y="1241"/>
                      <a:pt x="2447" y="1241"/>
                    </a:cubicBezTo>
                    <a:cubicBezTo>
                      <a:pt x="3783" y="1241"/>
                      <a:pt x="4895" y="960"/>
                      <a:pt x="4895" y="621"/>
                    </a:cubicBezTo>
                    <a:cubicBezTo>
                      <a:pt x="4895" y="282"/>
                      <a:pt x="3783" y="0"/>
                      <a:pt x="2447" y="0"/>
                    </a:cubicBezTo>
                  </a:path>
                </a:pathLst>
              </a:custGeom>
              <a:solidFill>
                <a:srgbClr val="0099ff">
                  <a:alpha val="3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4309920" y="2454120"/>
            <a:ext cx="1800" cy="932040"/>
          </a:xfrm>
          <a:prstGeom prst="line">
            <a:avLst/>
          </a:prstGeom>
          <a:ln w="146160">
            <a:solidFill>
              <a:srgbClr val="ff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57920" y="2451240"/>
            <a:ext cx="1440" cy="938160"/>
          </a:xfrm>
          <a:prstGeom prst="line">
            <a:avLst/>
          </a:prstGeom>
          <a:ln w="146160">
            <a:solidFill>
              <a:srgbClr val="2300d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97000" y="1460520"/>
            <a:ext cx="775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reference/features?segment=1:1,1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51080" y="2168640"/>
            <a:ext cx="743904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50280" y="1460520"/>
            <a:ext cx="7709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reference/features?segment=NT_0779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87520" y="2178000"/>
            <a:ext cx="705636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76840" y="1487520"/>
            <a:ext cx="76510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reference/features?segment=AL732372.15.1.1536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93840" y="2340000"/>
            <a:ext cx="75247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3880" y="30420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53320" y="907920"/>
            <a:ext cx="6989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karyotype/features?segment=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7560" y="1487520"/>
            <a:ext cx="4389480" cy="53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74680" y="2562480"/>
            <a:ext cx="77724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Adding DAS source to Ensemb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3880" y="749520"/>
            <a:ext cx="73580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Adding DAS source to Ensemb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06360" y="1568520"/>
            <a:ext cx="77104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witch on pre-configure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et up your own ser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(ProServer, Dazzle, LDAS – see Ensembl do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Configure an existing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Upload your own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View you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end your source to a collea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Web-based sources (Contigview &amp; Cytoview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4240" y="547560"/>
            <a:ext cx="693396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witch on a pre-configured source in geneview, protview, trans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7080" y="2495520"/>
            <a:ext cx="7737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1520" y="528480"/>
            <a:ext cx="693432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witch on a pre-configured source in contigview and cyto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1440" y="2352600"/>
            <a:ext cx="7402680" cy="42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et up your own DAS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1040" y="1397160"/>
            <a:ext cx="675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04840" y="1560600"/>
            <a:ext cx="5570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33440" y="1560600"/>
            <a:ext cx="743904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Serv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anger.ac.uk/Software/analysis/proserve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zzl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biojava.org/dazzle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D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biodas.org/servers/LDA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egister with DAS Registry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das.sanger.ac.uk/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280800"/>
            <a:ext cx="693432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 Registr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1040" y="1397160"/>
            <a:ext cx="675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04840" y="1560600"/>
            <a:ext cx="5570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22320" y="976320"/>
            <a:ext cx="8115480" cy="54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3880" y="659880"/>
            <a:ext cx="693432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and Ensemb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31960" y="1932120"/>
            <a:ext cx="6603840" cy="39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Essent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 as DA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ing DAS sources to Ensembl 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configuration in Ensem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code in Ensem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tu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33360" y="1432080"/>
            <a:ext cx="7764480" cy="40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43160" y="1198440"/>
            <a:ext cx="767556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81160" y="1633680"/>
            <a:ext cx="6086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97160" y="1260360"/>
            <a:ext cx="765648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70080" y="2065320"/>
            <a:ext cx="767556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pload your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9080" y="1341360"/>
            <a:ext cx="784692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 forma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notation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anger.ac.uk/Software/formats/GF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ylesheet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CSS_support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_upload_v1.e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2060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pload your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87680" y="1069920"/>
            <a:ext cx="665784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pload your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16120" y="2038320"/>
            <a:ext cx="660096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gene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1351080"/>
            <a:ext cx="625788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contig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55920" y="1316160"/>
            <a:ext cx="6648120" cy="53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3880" y="52164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Ess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224000"/>
            <a:ext cx="6934320" cy="50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istributed Annotation System (DA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A server system for the sharing of Reference Sequences, and their annot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AS serv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Referenc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Annotatio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AS reques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entry_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nsembl as DAS ser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http://www.biodas.org/documents/spec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407520"/>
            <a:ext cx="69343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prot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79440" y="4200480"/>
            <a:ext cx="7385040" cy="2514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333440" y="1158840"/>
            <a:ext cx="746280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90000"/>
            <a:ext cx="693396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prot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68520" y="942840"/>
            <a:ext cx="6313320" cy="56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3880" y="404640"/>
            <a:ext cx="693432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Gene-based annotations in contig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12960" y="2286000"/>
            <a:ext cx="1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33520" y="1514520"/>
            <a:ext cx="6657840" cy="52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1520" y="190440"/>
            <a:ext cx="693432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Applying styleshee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11520" y="2286000"/>
            <a:ext cx="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57240" y="966960"/>
            <a:ext cx="6572520" cy="4903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154240" y="6141960"/>
            <a:ext cx="7192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CSS_support.pd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sing score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11520" y="2286000"/>
            <a:ext cx="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12720" y="1395360"/>
            <a:ext cx="7115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sing score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11520" y="2286000"/>
            <a:ext cx="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90680" y="54000"/>
            <a:ext cx="6415200" cy="675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end the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1520" y="1479600"/>
            <a:ext cx="7292880" cy="32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nsembl.org/Homo_sapines/contig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f_script=contigview;c=13:31829752.5:1;w=500000;h=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d_das_source= (name=hydraeuf_00001291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rl=http://das.ensembl.org/das+dsn=hydraeuf_00001291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ype=ensembl_location+color=red+strand=b+labelflag=u+stylesheet=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group=n+depth=10+score=n+active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Web-based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6520" y="4454640"/>
            <a:ext cx="763920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nsembl.org/info/data/external_data/examples/url_bed.t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nsembl.org/info/data/external_data/examples/url_pcl.t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nsembl.org/info/data/external_data/examples/url_gff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39920" y="1636560"/>
            <a:ext cx="7804080" cy="20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browser position chr19:6900001-74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track name=BAC_end_pairs_bed description="BAC end pairs (BED)" useScore=1 color=ffcc66 url=http://www.ensembl.org/human/fastaview?faid=DNA_bacend_1533&amp;id=$$ height=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19      6503520 6641948 CTD-3084A17:AQ144413-AQ186293   1000    -       6503520 6641948 0       2       462,512 0,1379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19      6527567 6695619 RP11-357B22:AZ518790-AQ552859   1000    -       6527567 6695619 0       2       470,525 0,1675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19      6527640 6704480 RP11-134L9:AQ388324-AQ388334    1000    -       6527640 6704480 0       2       307,557 0,1762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isplay of web-based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87680" y="1906560"/>
            <a:ext cx="6657840" cy="4172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352520" y="1544760"/>
            <a:ext cx="767556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ensembl.org/Homo_sapiens/contigview?data_URL=http://www.ensembl.org/info/data/external_data/examples/url_bed.tx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43160" y="177840"/>
            <a:ext cx="69339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xercise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880920"/>
            <a:ext cx="784692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ate a file for uploa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 features should belong to the group 'Probe A'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ree features should belong to the group 'Probe B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ylesheet section that renders Probe A features in red and Probe B features in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pload the  file and view the track in contig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 the same source via auto-attach URL, but with stylesheet switched off and features grou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 forma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anger.ac.uk/Software/formats/GFF/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CSS_support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_upload_v1.e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3880" y="52164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istributed Annota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04920" y="1136520"/>
            <a:ext cx="747540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50880" y="2856240"/>
            <a:ext cx="6951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51040" y="96480"/>
            <a:ext cx="61340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36600" y="1521000"/>
            <a:ext cx="824220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Lite: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search.cpan.org/~rpettett/Bio-DasLite-0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oDas: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biodas.org/download/Bio::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AP  : http://soaplite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i-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AULTS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configure a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Server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06680" y="132840"/>
            <a:ext cx="58798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23560" y="1068480"/>
            <a:ext cx="79131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AULT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Web services (Used for DA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WWW_PROXY  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_REGISTRY_URL        = http://das.sanger.ac.uk/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SERVERS         = [das.ensembl.org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SERVER    = das.mydoma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HOST    = das.mydoma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PORT    = 33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NAME    = ens_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USER    =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PASS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87600" y="313560"/>
            <a:ext cx="664200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</a:t>
            </a:r>
            <a:br>
              <a:rPr sz="3600"/>
            </a:b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Preconfigure a source</a:t>
            </a: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13880" y="1595520"/>
            <a:ext cx="558000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mo_sapiens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DAS Conf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ENSEMBL_INTERNAL_DAS_SOURC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A =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B =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C =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Source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sn        = proj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rl         = http://das.ensembl.org/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        = [ contigview cytoview geneview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87400" y="-67320"/>
            <a:ext cx="63882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0560" y="457200"/>
            <a:ext cx="604476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[SourceA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sn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projec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rl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http://das.ensembl.org/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n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[ contigview cytoview geneview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ensembl_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abel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Source A pr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ption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Source A pr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ol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bl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abelflag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omepage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http://das.ensembl.org/das/projec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elplink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http://das.ensembl.org/das/projec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rand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pth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9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roup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ylesheet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core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[ contigview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NCBIM3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asta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[ DNA_A_probes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66920" y="389880"/>
            <a:ext cx="764064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br>
              <a:rPr sz="3600"/>
            </a:b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Data uplo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68640" y="2373480"/>
            <a:ext cx="5829120" cy="33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03520" y="335880"/>
            <a:ext cx="744048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br>
              <a:rPr sz="3600"/>
            </a:b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Data uplo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97200" y="1552680"/>
            <a:ext cx="53341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figure ProServer (eg/proserver.ini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hydraeuf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e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aptor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upload_e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dra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d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port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d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name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e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bname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ens_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st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das.mydoma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rt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33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name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rw_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ssword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95280" y="2856240"/>
            <a:ext cx="77122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Futur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76640" y="83880"/>
            <a:ext cx="591336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Future develop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31760" y="811080"/>
            <a:ext cx="6587280" cy="60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r lo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serving Ensembl DAS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sembl as DAS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rving Ensembl data as DAS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S for Functional geno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bining features and real valu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sembl Upload Format, vers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ploading gene and protein bas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`meta`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figure Ensembl display at th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oss-assembly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play sources based on old assemblies on the current Ensemb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S2 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11320" y="2933640"/>
            <a:ext cx="75214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Talk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00160" y="3514680"/>
            <a:ext cx="743256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Talk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01760" y="1998720"/>
            <a:ext cx="7107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Ess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95520" y="1316160"/>
            <a:ext cx="5043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`dsn` -  Get the list of availabl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67040" y="2673360"/>
            <a:ext cx="5371920" cy="3143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73600" y="2022480"/>
            <a:ext cx="3717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das.ensembl.org/das/d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Ess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82640" y="2400480"/>
            <a:ext cx="6086520" cy="3943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03480" y="1333440"/>
            <a:ext cx="3929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`features` - Get the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8800" y="1895400"/>
            <a:ext cx="738900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bi.ac.uk/das-srv/asd/das/atd_human/features?segment=13:3770000,381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59480" y="1496880"/>
            <a:ext cx="47314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st of referenc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ensembl.org/das/d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71520" y="2182680"/>
            <a:ext cx="76471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94840" y="1389240"/>
            <a:ext cx="79527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st of entry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ensembl.org/das/Homo_sapiens.current.reference/entry_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nsembl.org/das/Homo_sapiens.NCBI36.reference/entry_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322280" y="2332080"/>
            <a:ext cx="7515360" cy="38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60200" y="1460520"/>
            <a:ext cx="261720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loring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30440" y="2114640"/>
            <a:ext cx="6772320" cy="346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