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027334E-E99D-4957-A231-1CE4EE03F60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FA5C02E-91B3-45B9-AFCD-B3C8031EE22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BE5F490-0298-4B4D-81D5-91C60E5E5B3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AEAD9DC-ECDF-4F28-BD4C-70C3B1350EE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3DF6972-B92D-4BE0-AA57-7772224F8AD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ACF4254-222A-4B7A-91E1-C522EE5FC4C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DB96830-FD1F-4330-9741-A4E5FBA4C45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0DCF971-EF8C-443D-B288-31A3964C398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635CB77-C21A-4CBD-8B29-3E237F9B5F3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1F949D5-6387-429B-BB01-7EFEFD8D399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EC698B1-2C74-4470-86CD-C71D86DA37B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D5BB0EE-A345-4BC5-9FEB-A93CE78CBBB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50B620C-07DA-458D-833E-4B3D19B9C0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465CBC2-C541-4CA6-BA1E-E1E4A68458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A1981E7-2F5A-4B0C-A6ED-D2FF4DDA27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8DCD41D-75F8-4788-86A1-CD319644F3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035DEA3-1F26-4583-ADA4-A29C0EBA8D6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1A81FA2-C990-4A75-A17E-55929919222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8C12F69-2014-4DEC-B00E-07813AAEA85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8735726-8595-49CB-9B13-82F780A4360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0D19E20-098F-4DA3-9BAD-17F2309A1ED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8460B73-F14B-4442-BE6D-24CFC7B5F8A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6D65D80-350E-41E0-8062-16495EACDF3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C4E9627-0D98-450D-B7A3-EAA4174225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2B7B312-0407-45DB-B2A4-FAA264BAF3C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0DDADE8-8F56-4143-8912-EAA0DE446EB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E643AB7-2B36-473C-B48D-B8A47D4ED1C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B0F7D7C-B39A-4C3C-9D81-EE0977042D2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EFFEAEF-2CA3-4975-BCFE-7F016951D6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B9F7AF8-82A1-4785-AA1E-C7E986FC68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926B079-2905-41BF-8323-5BDF0C06B6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A64868-8265-4DB3-B2BF-50D062BDC5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B73E506-8CB8-4B3F-96C6-229BA5A6B6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AE412A-28A6-4B08-A26B-4E3B086339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5C24EE-A115-48CB-BFB2-F253AB8CFB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48FECA-24B2-4E71-B44D-1B86CD1A1C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3305B-0602-4E46-BEB1-87E7DBBC6FA6}"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86519-3233-4543-B0F5-887E8B30816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665E7DB-DC4A-431B-8986-930614C5237B}"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FE10405-BE51-4796-88F2-46B43A653AF0}"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B8831B6-600B-45B3-A632-94D4F606E3A0}"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CDC7DCF-B984-46F7-B882-EC505BAEFB8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49ED61B-E636-441A-805C-9E134C7EEA20}"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6DAE494-C2C2-4D12-9CEF-EE39A890899A}"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5E8041F-8846-40C2-8D82-3F6487DBDE91}"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D2E48E1-F4EA-4A65-B584-48EA9BBDEA0D}"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C092E7B-C600-418A-93C2-1462995E8B1A}"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8FCC997-3114-444F-B1C4-B2C2B64E6052}"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5237765-A157-4F32-A390-C675885CAE6C}"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CBE18A14-647B-4A76-B641-AA74150DC274}"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F385A07-F357-4D46-AD30-53BE2A37E091}"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A132116-34D2-4808-9134-4162494ECCB9}"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9D5EDD1-FE66-4E94-AC81-A374621F8FC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E23B515-5459-4C55-9069-DF35A1F86914}"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6AAA497-63FA-4F38-AFB1-3446EB9341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C98309E-5E1E-4CDD-BB55-CA51E99253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F63375C-5876-4A8B-90B2-2CA73B9D9649}"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8558382-4351-4091-800C-4EAC57FC6E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C7E73EE-A3E6-4714-ADD7-54344AFCB7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7D5287B-AC40-4992-86C9-890ABEFA049D}"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D57D00A-8D2F-4A0F-BDCA-C4E4A41E1B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E05EB50-8488-4115-99DB-6ED832C220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F43F04-5BE0-4F44-9C93-DF4D0A8B0E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A4286E5-CE9A-4D86-8359-7C7069FCDD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1BC4788-AD15-4CEF-B5DE-09CAF7EFE0D0}"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6A7DBEE-14E1-4A39-AAA9-88D30EA556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72B7921-2730-4940-85F7-AA921D85D9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8126CE-DD37-41D9-9BFE-FB8A346587B1}"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5DBECDA-F212-42CE-9E42-EEC6026B462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6135E10-2051-4595-99B1-EF9775C82A1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041F00-63A4-4C49-812E-0B856C6D302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E195B86-F23A-49B6-8C33-36315B62D13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5E46B99-A1D8-4A62-B8F5-29DFDE2912C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0E9121A-43BC-4130-A428-A454EE17988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A4AF645-88A8-4973-87BA-58953886F6D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0CDA2A2-0350-4553-994A-2527737E33E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E70C648-CC4A-40A2-9ABF-A0180007D2FE}"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92451CB-AA1D-4257-907E-C905BFBBEE4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49C3D3A-6116-48C8-9941-558FF8AD2DD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390240D-4490-4E93-853F-57F45CEF425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DACD090-57D9-4D58-A61D-C5675EA4513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2DB24C-25D4-4500-824D-8FD0CC945C2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F2DBAD0-C6BB-4BBB-B9BC-066CA7B000B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FFA1176-B93B-41E5-A2B1-BB73223BE21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12236EF-8854-4140-81B3-B85DFFC1761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157C36-6C9A-4E71-8413-6C126C891D6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9D1F2E4-597A-4DB3-A335-166EC2CABC41}"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C11647D-11A9-4CA8-9C85-E8BC9F96F47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656086A-B26E-4F0A-9396-C7B7F76E0E9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6239EC5-1B6D-4B1B-B9FA-88F57D3A282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C04A7AF-7D88-4ABA-B4F1-AFF7F027EDE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703ACE9-198D-4538-9195-33F71CCE6C1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725A736-395A-427D-8276-30CC42D5BDAE}"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EBC9EE7-E708-4EFA-9B86-87FD0DAAEF7F}"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B7F3F2A-D82C-4133-9C02-94B63E8191F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39F430D-4684-4F00-9C32-6CF6196CC63F}"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0C49E98-505F-4629-9619-A22AB9CFED9B}"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0C1A2A4-FCAF-4995-83F9-FDEE58371515}"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A550CC7-9AFB-4FDD-886C-678B1870F832}"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28966D7-8F7A-4C6A-99C9-74FB3F96E67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26FA867-7651-4825-9EC7-6DB976818863}"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8FDDC4F-FA80-4C2A-8000-0FAB4358B407}"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3C0589E-4578-427B-9590-2CF216ECB33D}"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1E33968-64CC-4A7F-8F6E-F95B59799AB4}"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A4D788D-9802-4EE7-B4BF-8530C5DE9C3E}"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CDEB5B9-C850-48A0-9ABF-41D39F8DBC9E}"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A121F3A-227A-4F52-828E-4F22F0F4B057}"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46C7551-3C6C-40EC-8632-8382DDFAA946}"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4331603-A4A6-4D2F-A2D6-B87424A75480}"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CDB14A9-8663-457A-B72B-1ACC7B42B2E2}"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CE75BAD-984A-4162-8B81-4B1CC1538C8B}"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985D85B-98EF-4305-B45E-B52BD0BB80A9}"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147D7AA-561F-4673-A4ED-34B41164C0E1}"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43BF71C-4103-4023-96E5-56BEB079FA8B}"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7DCCE79-2A69-4347-A7C1-A06634E9F9A7}"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0CDF026-8D2B-468C-AD40-A5481EBA377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B055124-CF42-44C8-8333-FEB26F5C5387}"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92FB834-12BD-4366-9176-286AB9AA8C0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D741261-6D0B-4ADC-A069-6697F2C46D4E}"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73460AD-43D8-4ADC-A198-FE22FC2DA76D}"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D8B5738-D649-4FF1-9D76-65A594961F8D}"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0694FDA-3954-49C3-984D-4F77A99C4FBE}"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FB1551D-372F-4C54-AC30-FE97D7749555}"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2FA7A63-3EEC-4C7A-83BF-E1A293E1AC6B}"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F0693CD-07FA-47A6-9445-06247ECE1498}"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0669955-45E0-49A2-B70A-9CCCBE6D6409}"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82AF73F-BE63-41D2-9F48-86498877165D}"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8247D2E-82AC-46B9-820E-613585ED9307}"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722567C-2E22-45BB-948E-AEA8493DFF09}"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3902E6E-1DC7-4BE4-A8BA-F776E27B47C4}"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E3B901E-EBE5-4B51-9D51-AE50E1A4E676}"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21B51B7-F283-4D5C-ACD6-8C3F8822C174}"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3FDB7F8-C3AF-4E09-A946-B57A104F9612}"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85F4C87-50E6-4325-852B-7117EA679E97}"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C81C1BF-13E3-41CC-BD1D-83CBC49C5817}"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A52DBB92-B79E-41F5-93BD-7E9F9735D79F}"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9546AB2-C970-47CC-9E8A-EB9BE1C58511}"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258C422-E594-4D67-9FA4-4AF3FDA8F13F}"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BD14B57-6240-497C-A5A4-A56A43FE63B1}"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7E97CEF-A89E-4657-95D9-5EEB1F89887C}"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999398C-4B36-4C56-8018-6D7190ECCD57}"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0B5274B-CB03-4DB2-ACEC-6A42E8C74BAF}"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D40183-5DBF-45C1-9316-4DAE7A9484DD}"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2BA219D-7605-41DF-BD39-A98ADEE6BAE1}"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7CF4AE3-BF05-4409-BB93-0BA4A99AF2BA}"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4EF59B0-B9A6-4B49-8AF6-ACFFBF7A81F6}"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A839863-DB17-4546-A204-423CDE0D606A}"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40C9FE5-AC5D-44E6-8478-12E3282866F2}"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FF4B8CB-F0E3-4E77-B9E9-7BE341A193EC}"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