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B8AB0-AC6E-42E1-8D94-9525CBB825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A9B29-2B1E-487D-9251-F13EB62D18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8A8F3-79F8-4788-92F8-9590F9F7BE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E2FFE8-B540-496D-B6CF-3E65E0837D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E5A46-1745-4526-8797-1BDCEB5398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A0907-962A-4856-B481-EEE6F40D72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2A5E09-F4CF-4060-97DC-8195E691AB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88ABD-6289-4C5B-9C9A-106F481D02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8D69D2-8995-4ED8-BD93-01FB57BC87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77920-DD6C-4AFC-8AD2-8DEB770D08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8D83B-A923-4F03-A04B-505ADACA10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55F220-54EF-4F3E-B0A9-DB91DA676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D9F332-CE90-4660-A011-649A320721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213560" y="1523880"/>
            <a:ext cx="6979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the first Slide - Text Box 1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814040" y="3925800"/>
            <a:ext cx="533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is the first Slide Text Box 2 - Ari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833760" y="1371600"/>
            <a:ext cx="7495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ourier New"/>
              </a:rPr>
              <a:t>This is Slide 2 Text Box 1 - Courier New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971640" y="2860560"/>
            <a:ext cx="60102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is is Slide 2 Text Box 2 - Times New Rom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oint 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0-16T13:26:04Z</dcterms:created>
  <dc:creator>Steven Grubb</dc:creator>
  <dc:description/>
  <dc:language>en-US</dc:language>
  <cp:lastModifiedBy>Steven Grubb</cp:lastModifiedBy>
  <dcterms:modified xsi:type="dcterms:W3CDTF">1999-10-16T13:32:21Z</dcterms:modified>
  <cp:revision>1</cp:revision>
  <dc:subject/>
  <dc:title>No Slide Title</dc:title>
</cp:coreProperties>
</file>